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26B5-49EB-435C-8347-2F18E05B6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1A33-0CEC-4221-BF3B-701FDAF46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F8DB-A2A3-4031-87CD-4C9424DC4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5D0A-DF10-428B-8DA2-25F4E9916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F11F-91FC-4565-B8D6-5CDAC700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9573-53EC-4841-A2E9-17010FFDA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442C-4124-4403-8553-C98D0843E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3FE3-AA3A-45A8-BDC8-415BD21FE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C3B9-665E-4FE9-A69E-94957C199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8ECA-0740-4EDA-8654-CB5BD2C4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7C84-6720-4F8A-8966-B7F275CD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B0C1-08FC-4FEE-8040-696393CD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162920" y="6172200"/>
            <a:ext cx="1805040" cy="4604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 rot="5400000">
            <a:off x="-2629440" y="3467160"/>
            <a:ext cx="5867640" cy="6094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EE5F8-46B0-4BCD-A82D-09ED8BCF0E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174880" y="6450120"/>
            <a:ext cx="833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Comic Sans MS"/>
              </a:rPr>
              <a:t>© Karl Döber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28600" y="685800"/>
            <a:ext cx="868680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7160" y="0"/>
            <a:ext cx="61167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99"/>
                </a:solidFill>
                <a:latin typeface="Arial"/>
              </a:rPr>
              <a:t>Unternehmensübergreifende Organisationsform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35800" y="330120"/>
            <a:ext cx="46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Arial"/>
              </a:rPr>
              <a:t>Kooperations- und Globalisierungsstrategi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7089120" y="6324480"/>
            <a:ext cx="105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3333cc"/>
                </a:solidFill>
                <a:latin typeface="Tahoma"/>
              </a:rPr>
              <a:t>www.trauner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16.xml"/><Relationship Id="rId5" Type="http://schemas.openxmlformats.org/officeDocument/2006/relationships/slide" Target="slide20.xml"/><Relationship Id="rId6" Type="http://schemas.openxmlformats.org/officeDocument/2006/relationships/slide" Target="slide18.xml"/><Relationship Id="rId7" Type="http://schemas.openxmlformats.org/officeDocument/2006/relationships/slide" Target="slide21.xml"/><Relationship Id="rId8" Type="http://schemas.openxmlformats.org/officeDocument/2006/relationships/slide" Target="slide24.xml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16.xml"/><Relationship Id="rId5" Type="http://schemas.openxmlformats.org/officeDocument/2006/relationships/slide" Target="slide20.xml"/><Relationship Id="rId6" Type="http://schemas.openxmlformats.org/officeDocument/2006/relationships/slide" Target="slide18.xml"/><Relationship Id="rId7" Type="http://schemas.openxmlformats.org/officeDocument/2006/relationships/slide" Target="slide21.xml"/><Relationship Id="rId8" Type="http://schemas.openxmlformats.org/officeDocument/2006/relationships/slide" Target="slide24.xml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16.xml"/><Relationship Id="rId5" Type="http://schemas.openxmlformats.org/officeDocument/2006/relationships/slide" Target="slide20.xml"/><Relationship Id="rId6" Type="http://schemas.openxmlformats.org/officeDocument/2006/relationships/slide" Target="slide18.xml"/><Relationship Id="rId7" Type="http://schemas.openxmlformats.org/officeDocument/2006/relationships/slide" Target="slide21.xml"/><Relationship Id="rId8" Type="http://schemas.openxmlformats.org/officeDocument/2006/relationships/slide" Target="slide24.xml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16.xml"/><Relationship Id="rId5" Type="http://schemas.openxmlformats.org/officeDocument/2006/relationships/slide" Target="slide20.xml"/><Relationship Id="rId6" Type="http://schemas.openxmlformats.org/officeDocument/2006/relationships/slide" Target="slide18.xml"/><Relationship Id="rId7" Type="http://schemas.openxmlformats.org/officeDocument/2006/relationships/slide" Target="slide21.xml"/><Relationship Id="rId8" Type="http://schemas.openxmlformats.org/officeDocument/2006/relationships/slide" Target="slide24.xml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16.xml"/><Relationship Id="rId4" Type="http://schemas.openxmlformats.org/officeDocument/2006/relationships/slide" Target="slide20.xml"/><Relationship Id="rId5" Type="http://schemas.openxmlformats.org/officeDocument/2006/relationships/slide" Target="slide18.xml"/><Relationship Id="rId6" Type="http://schemas.openxmlformats.org/officeDocument/2006/relationships/slide" Target="slide21.xml"/><Relationship Id="rId7" Type="http://schemas.openxmlformats.org/officeDocument/2006/relationships/slide" Target="slide24.xml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16.xml"/><Relationship Id="rId5" Type="http://schemas.openxmlformats.org/officeDocument/2006/relationships/slide" Target="slide20.xml"/><Relationship Id="rId6" Type="http://schemas.openxmlformats.org/officeDocument/2006/relationships/slide" Target="slide18.xml"/><Relationship Id="rId7" Type="http://schemas.openxmlformats.org/officeDocument/2006/relationships/slide" Target="slide21.xml"/><Relationship Id="rId8" Type="http://schemas.openxmlformats.org/officeDocument/2006/relationships/slide" Target="slide24.xml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16.xml"/><Relationship Id="rId4" Type="http://schemas.openxmlformats.org/officeDocument/2006/relationships/slide" Target="slide20.xml"/><Relationship Id="rId5" Type="http://schemas.openxmlformats.org/officeDocument/2006/relationships/slide" Target="slide18.xml"/><Relationship Id="rId6" Type="http://schemas.openxmlformats.org/officeDocument/2006/relationships/slide" Target="slide21.xml"/><Relationship Id="rId7" Type="http://schemas.openxmlformats.org/officeDocument/2006/relationships/slide" Target="slide24.xml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16.xml"/><Relationship Id="rId5" Type="http://schemas.openxmlformats.org/officeDocument/2006/relationships/slide" Target="slide20.xml"/><Relationship Id="rId6" Type="http://schemas.openxmlformats.org/officeDocument/2006/relationships/slide" Target="slide18.xml"/><Relationship Id="rId7" Type="http://schemas.openxmlformats.org/officeDocument/2006/relationships/slide" Target="slide21.xml"/><Relationship Id="rId8" Type="http://schemas.openxmlformats.org/officeDocument/2006/relationships/slide" Target="slide24.xml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16.xml"/><Relationship Id="rId4" Type="http://schemas.openxmlformats.org/officeDocument/2006/relationships/slide" Target="slide20.xml"/><Relationship Id="rId5" Type="http://schemas.openxmlformats.org/officeDocument/2006/relationships/slide" Target="slide18.xml"/><Relationship Id="rId6" Type="http://schemas.openxmlformats.org/officeDocument/2006/relationships/slide" Target="slide21.xml"/><Relationship Id="rId7" Type="http://schemas.openxmlformats.org/officeDocument/2006/relationships/slide" Target="slide24.xml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16.xml"/><Relationship Id="rId5" Type="http://schemas.openxmlformats.org/officeDocument/2006/relationships/slide" Target="slide20.xml"/><Relationship Id="rId6" Type="http://schemas.openxmlformats.org/officeDocument/2006/relationships/slide" Target="slide18.xml"/><Relationship Id="rId7" Type="http://schemas.openxmlformats.org/officeDocument/2006/relationships/slide" Target="slide21.xml"/><Relationship Id="rId8" Type="http://schemas.openxmlformats.org/officeDocument/2006/relationships/slide" Target="slide24.xml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image" Target="../media/image2.wmf"/><Relationship Id="rId7" Type="http://schemas.openxmlformats.org/officeDocument/2006/relationships/slide" Target="slide13.xml"/><Relationship Id="rId8" Type="http://schemas.openxmlformats.org/officeDocument/2006/relationships/slide" Target="slide14.xml"/><Relationship Id="rId9" Type="http://schemas.openxmlformats.org/officeDocument/2006/relationships/slide" Target="slide16.xml"/><Relationship Id="rId10" Type="http://schemas.openxmlformats.org/officeDocument/2006/relationships/slide" Target="slide18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" Target="slide24.xml"/><Relationship Id="rId14" Type="http://schemas.openxmlformats.org/officeDocument/2006/relationships/slide" Target="slide3.xml"/><Relationship Id="rId15" Type="http://schemas.openxmlformats.org/officeDocument/2006/relationships/slide" Target="slide4.xml"/><Relationship Id="rId16" Type="http://schemas.openxmlformats.org/officeDocument/2006/relationships/slide" Target="slide16.xml"/><Relationship Id="rId17" Type="http://schemas.openxmlformats.org/officeDocument/2006/relationships/slide" Target="slide20.xml"/><Relationship Id="rId18" Type="http://schemas.openxmlformats.org/officeDocument/2006/relationships/slide" Target="slide18.xml"/><Relationship Id="rId19" Type="http://schemas.openxmlformats.org/officeDocument/2006/relationships/slide" Target="slide21.xml"/><Relationship Id="rId20" Type="http://schemas.openxmlformats.org/officeDocument/2006/relationships/slide" Target="slide24.xml"/><Relationship Id="rId21" Type="http://schemas.openxmlformats.org/officeDocument/2006/relationships/slide" Target="slide27.xml"/><Relationship Id="rId2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16.xml"/><Relationship Id="rId5" Type="http://schemas.openxmlformats.org/officeDocument/2006/relationships/slide" Target="slide20.xml"/><Relationship Id="rId6" Type="http://schemas.openxmlformats.org/officeDocument/2006/relationships/slide" Target="slide18.xml"/><Relationship Id="rId7" Type="http://schemas.openxmlformats.org/officeDocument/2006/relationships/slide" Target="slide21.xml"/><Relationship Id="rId8" Type="http://schemas.openxmlformats.org/officeDocument/2006/relationships/slide" Target="slide24.xml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16.xml"/><Relationship Id="rId4" Type="http://schemas.openxmlformats.org/officeDocument/2006/relationships/slide" Target="slide20.xml"/><Relationship Id="rId5" Type="http://schemas.openxmlformats.org/officeDocument/2006/relationships/slide" Target="slide18.xml"/><Relationship Id="rId6" Type="http://schemas.openxmlformats.org/officeDocument/2006/relationships/slide" Target="slide21.xml"/><Relationship Id="rId7" Type="http://schemas.openxmlformats.org/officeDocument/2006/relationships/slide" Target="slide24.xml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16.xml"/><Relationship Id="rId4" Type="http://schemas.openxmlformats.org/officeDocument/2006/relationships/slide" Target="slide20.xml"/><Relationship Id="rId5" Type="http://schemas.openxmlformats.org/officeDocument/2006/relationships/slide" Target="slide18.xml"/><Relationship Id="rId6" Type="http://schemas.openxmlformats.org/officeDocument/2006/relationships/slide" Target="slide21.xml"/><Relationship Id="rId7" Type="http://schemas.openxmlformats.org/officeDocument/2006/relationships/slide" Target="slide24.xml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16.xml"/><Relationship Id="rId5" Type="http://schemas.openxmlformats.org/officeDocument/2006/relationships/slide" Target="slide20.xml"/><Relationship Id="rId6" Type="http://schemas.openxmlformats.org/officeDocument/2006/relationships/slide" Target="slide18.xml"/><Relationship Id="rId7" Type="http://schemas.openxmlformats.org/officeDocument/2006/relationships/slide" Target="slide21.xml"/><Relationship Id="rId8" Type="http://schemas.openxmlformats.org/officeDocument/2006/relationships/slide" Target="slide24.xml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16.xml"/><Relationship Id="rId4" Type="http://schemas.openxmlformats.org/officeDocument/2006/relationships/slide" Target="slide20.xml"/><Relationship Id="rId5" Type="http://schemas.openxmlformats.org/officeDocument/2006/relationships/slide" Target="slide18.xml"/><Relationship Id="rId6" Type="http://schemas.openxmlformats.org/officeDocument/2006/relationships/slide" Target="slide21.xml"/><Relationship Id="rId7" Type="http://schemas.openxmlformats.org/officeDocument/2006/relationships/slide" Target="slide24.xml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16.xml"/><Relationship Id="rId5" Type="http://schemas.openxmlformats.org/officeDocument/2006/relationships/slide" Target="slide20.xml"/><Relationship Id="rId6" Type="http://schemas.openxmlformats.org/officeDocument/2006/relationships/slide" Target="slide18.xml"/><Relationship Id="rId7" Type="http://schemas.openxmlformats.org/officeDocument/2006/relationships/slide" Target="slide21.xml"/><Relationship Id="rId8" Type="http://schemas.openxmlformats.org/officeDocument/2006/relationships/slide" Target="slide24.xml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16.xml"/><Relationship Id="rId4" Type="http://schemas.openxmlformats.org/officeDocument/2006/relationships/slide" Target="slide20.xml"/><Relationship Id="rId5" Type="http://schemas.openxmlformats.org/officeDocument/2006/relationships/slide" Target="slide18.xml"/><Relationship Id="rId6" Type="http://schemas.openxmlformats.org/officeDocument/2006/relationships/slide" Target="slide21.xml"/><Relationship Id="rId7" Type="http://schemas.openxmlformats.org/officeDocument/2006/relationships/slide" Target="slide24.xml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16.xml"/><Relationship Id="rId4" Type="http://schemas.openxmlformats.org/officeDocument/2006/relationships/slide" Target="slide20.xml"/><Relationship Id="rId5" Type="http://schemas.openxmlformats.org/officeDocument/2006/relationships/slide" Target="slide18.xml"/><Relationship Id="rId6" Type="http://schemas.openxmlformats.org/officeDocument/2006/relationships/slide" Target="slide21.xml"/><Relationship Id="rId7" Type="http://schemas.openxmlformats.org/officeDocument/2006/relationships/slide" Target="slide24.xml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16.xml"/><Relationship Id="rId5" Type="http://schemas.openxmlformats.org/officeDocument/2006/relationships/slide" Target="slide20.xml"/><Relationship Id="rId6" Type="http://schemas.openxmlformats.org/officeDocument/2006/relationships/slide" Target="slide18.xml"/><Relationship Id="rId7" Type="http://schemas.openxmlformats.org/officeDocument/2006/relationships/slide" Target="slide21.xml"/><Relationship Id="rId8" Type="http://schemas.openxmlformats.org/officeDocument/2006/relationships/slide" Target="slide24.xml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16.xml"/><Relationship Id="rId10" Type="http://schemas.openxmlformats.org/officeDocument/2006/relationships/slide" Target="slide20.xml"/><Relationship Id="rId11" Type="http://schemas.openxmlformats.org/officeDocument/2006/relationships/slide" Target="slide18.xml"/><Relationship Id="rId12" Type="http://schemas.openxmlformats.org/officeDocument/2006/relationships/slide" Target="slide21.xml"/><Relationship Id="rId13" Type="http://schemas.openxmlformats.org/officeDocument/2006/relationships/slide" Target="slide24.xml"/><Relationship Id="rId14" Type="http://schemas.openxmlformats.org/officeDocument/2006/relationships/slide" Target="slide4.xml"/><Relationship Id="rId15" Type="http://schemas.openxmlformats.org/officeDocument/2006/relationships/slide" Target="slide10.xml"/><Relationship Id="rId16" Type="http://schemas.openxmlformats.org/officeDocument/2006/relationships/slide" Target="slide11.xml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16.xml"/><Relationship Id="rId5" Type="http://schemas.openxmlformats.org/officeDocument/2006/relationships/slide" Target="slide20.xml"/><Relationship Id="rId6" Type="http://schemas.openxmlformats.org/officeDocument/2006/relationships/slide" Target="slide18.xml"/><Relationship Id="rId7" Type="http://schemas.openxmlformats.org/officeDocument/2006/relationships/slide" Target="slide21.xml"/><Relationship Id="rId8" Type="http://schemas.openxmlformats.org/officeDocument/2006/relationships/slide" Target="slide24.xml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16.xml"/><Relationship Id="rId5" Type="http://schemas.openxmlformats.org/officeDocument/2006/relationships/slide" Target="slide20.xml"/><Relationship Id="rId6" Type="http://schemas.openxmlformats.org/officeDocument/2006/relationships/slide" Target="slide18.xml"/><Relationship Id="rId7" Type="http://schemas.openxmlformats.org/officeDocument/2006/relationships/slide" Target="slide21.xml"/><Relationship Id="rId8" Type="http://schemas.openxmlformats.org/officeDocument/2006/relationships/slide" Target="slide24.xml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16.xml"/><Relationship Id="rId5" Type="http://schemas.openxmlformats.org/officeDocument/2006/relationships/slide" Target="slide20.xml"/><Relationship Id="rId6" Type="http://schemas.openxmlformats.org/officeDocument/2006/relationships/slide" Target="slide18.xml"/><Relationship Id="rId7" Type="http://schemas.openxmlformats.org/officeDocument/2006/relationships/slide" Target="slide21.xml"/><Relationship Id="rId8" Type="http://schemas.openxmlformats.org/officeDocument/2006/relationships/slide" Target="slide24.xml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16.xml"/><Relationship Id="rId5" Type="http://schemas.openxmlformats.org/officeDocument/2006/relationships/slide" Target="slide20.xml"/><Relationship Id="rId6" Type="http://schemas.openxmlformats.org/officeDocument/2006/relationships/slide" Target="slide18.xml"/><Relationship Id="rId7" Type="http://schemas.openxmlformats.org/officeDocument/2006/relationships/slide" Target="slide21.xml"/><Relationship Id="rId8" Type="http://schemas.openxmlformats.org/officeDocument/2006/relationships/slide" Target="slide24.xml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16.xml"/><Relationship Id="rId5" Type="http://schemas.openxmlformats.org/officeDocument/2006/relationships/slide" Target="slide20.xml"/><Relationship Id="rId6" Type="http://schemas.openxmlformats.org/officeDocument/2006/relationships/slide" Target="slide18.xml"/><Relationship Id="rId7" Type="http://schemas.openxmlformats.org/officeDocument/2006/relationships/slide" Target="slide21.xml"/><Relationship Id="rId8" Type="http://schemas.openxmlformats.org/officeDocument/2006/relationships/slide" Target="slide24.xml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BD05515_" descr=""/>
          <p:cNvPicPr/>
          <p:nvPr/>
        </p:nvPicPr>
        <p:blipFill>
          <a:blip r:embed="rId1"/>
          <a:stretch/>
        </p:blipFill>
        <p:spPr>
          <a:xfrm>
            <a:off x="533520" y="4572000"/>
            <a:ext cx="2286000" cy="1873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590920" y="4114800"/>
            <a:ext cx="3733560" cy="2247840"/>
          </a:xfrm>
          <a:prstGeom prst="wedgeEllipseCallout">
            <a:avLst>
              <a:gd name="adj1" fmla="val 27592"/>
              <a:gd name="adj2" fmla="val -4662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Wie können Sie mit dieser Prä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rbeiten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??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20523600">
            <a:off x="5257800" y="4648320"/>
            <a:ext cx="2063880" cy="990360"/>
          </a:xfrm>
          <a:prstGeom prst="leftArrow">
            <a:avLst>
              <a:gd name="adj1" fmla="val 50000"/>
              <a:gd name="adj2" fmla="val 52099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Klick h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2" action="ppaction://hlinksldjump"/>
          </p:cNvPr>
          <p:cNvSpPr/>
          <p:nvPr/>
        </p:nvSpPr>
        <p:spPr>
          <a:xfrm>
            <a:off x="2590920" y="4229280"/>
            <a:ext cx="2286000" cy="2057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3" action="ppaction://hlinksldjump"/>
          </p:cNvPr>
          <p:cNvSpPr/>
          <p:nvPr/>
        </p:nvSpPr>
        <p:spPr>
          <a:xfrm>
            <a:off x="2590920" y="4114800"/>
            <a:ext cx="3733560" cy="22096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378560" y="5486400"/>
            <a:ext cx="153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Times New Roman"/>
              </a:rPr>
              <a:t>zum Anfang der</a:t>
            </a:r>
            <a:br>
              <a:rPr sz="1600"/>
            </a:br>
            <a:r>
              <a:rPr b="1" i="1" lang="de-DE" sz="1600" spc="-1" strike="noStrike">
                <a:solidFill>
                  <a:srgbClr val="000000"/>
                </a:solidFill>
                <a:latin typeface="Times New Roman"/>
              </a:rPr>
              <a:t>Prä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" action="ppaction://hlinkshowjump?jump=nextslide"/>
          </p:cNvPr>
          <p:cNvSpPr/>
          <p:nvPr/>
        </p:nvSpPr>
        <p:spPr>
          <a:xfrm>
            <a:off x="7391520" y="4572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6" h="21600">
                <a:moveTo>
                  <a:pt x="9191" y="3794"/>
                </a:moveTo>
                <a:lnTo>
                  <a:pt x="23204" y="10800"/>
                </a:lnTo>
                <a:lnTo>
                  <a:pt x="9191" y="17806"/>
                </a:lnTo>
                <a:close/>
              </a:path>
            </a:pathLst>
          </a:cu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5520" y="2286000"/>
            <a:ext cx="4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cc"/>
                </a:solidFill>
                <a:latin typeface="Times New Roman"/>
              </a:rPr>
              <a:t>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318080" y="152280"/>
            <a:ext cx="157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Pepita MT"/>
              </a:rPr>
              <a:t>©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arl Döber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2971800"/>
            <a:ext cx="8388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Arial"/>
              </a:rPr>
              <a:t>Unternehmensübergreifende Organisationsform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3505320"/>
            <a:ext cx="5195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Kooperations- und Globalisierungsstrategie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990720" y="990720"/>
            <a:ext cx="76723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5994720" y="380880"/>
            <a:ext cx="29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3300"/>
                </a:solidFill>
                <a:latin typeface="Arial Rounded MT Bold"/>
              </a:rPr>
              <a:t>Interessensgemeinscha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50320" y="762120"/>
            <a:ext cx="501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c3300"/>
                </a:solidFill>
                <a:latin typeface="Arial Rounded MT Bold"/>
              </a:rPr>
              <a:t>Interessensgemeinscha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965680" y="1295280"/>
            <a:ext cx="5094000" cy="70380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  <a:ea typeface="Arial"/>
              </a:rPr>
              <a:t>Zusammenschluss von rechtlich 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  <a:ea typeface="Arial"/>
              </a:rPr>
              <a:t>wirtschaftlich selbstständigen Unterneh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971800" y="2057400"/>
            <a:ext cx="5105520" cy="7038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  <a:ea typeface="Arial"/>
              </a:rPr>
              <a:t>horizontalen Zusammenschlu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  <a:ea typeface="Arial"/>
              </a:rPr>
              <a:t>auf vertraglicher Ba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971800" y="4038480"/>
            <a:ext cx="3089160" cy="131364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  <a:ea typeface="Arial"/>
              </a:rPr>
              <a:t>Wahrung und Förd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  <a:ea typeface="Arial"/>
              </a:rPr>
              <a:t>dauerhafter gemeinsa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  <a:ea typeface="Arial"/>
              </a:rPr>
              <a:t>Interess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971800" y="5257800"/>
            <a:ext cx="3048120" cy="131364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Rationalisieru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Kosteneinsparu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Umsatzsteigerung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971800" y="2857680"/>
            <a:ext cx="5105520" cy="100872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  <a:ea typeface="Arial"/>
              </a:rPr>
              <a:t>Gewinne aus den Kooperationsbereic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  <a:ea typeface="Arial"/>
              </a:rPr>
              <a:t>werden zusammengeleg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  <a:ea typeface="Arial"/>
              </a:rPr>
              <a:t>(Poolu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2120" y="3886200"/>
            <a:ext cx="731520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62120" y="5105520"/>
            <a:ext cx="5257800" cy="759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>
            <a:hlinkClick r:id="rId1" action="ppaction://hlinksldjump"/>
          </p:cNvPr>
          <p:cNvSpPr/>
          <p:nvPr/>
        </p:nvSpPr>
        <p:spPr>
          <a:xfrm>
            <a:off x="7924680" y="52578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4498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12653" y="3794"/>
                </a:lnTo>
                <a:lnTo>
                  <a:pt x="12653" y="17806"/>
                </a:lnTo>
                <a:lnTo>
                  <a:pt x="10991" y="17806"/>
                </a:lnTo>
                <a:close/>
              </a:path>
            </a:pathLst>
          </a:cu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851600" y="574524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um Anfa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rot="16200000">
            <a:off x="-2691360" y="3607920"/>
            <a:ext cx="59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Grundlagen     Strategische Allianzen      Joint Ventures       F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Konzern       rechtliche Fragen      wirtschaftliche Bedeu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>
            <a:hlinkClick r:id="rId2" action="ppaction://hlinksldjump"/>
          </p:cNvPr>
          <p:cNvSpPr/>
          <p:nvPr/>
        </p:nvSpPr>
        <p:spPr>
          <a:xfrm>
            <a:off x="41400" y="5584680"/>
            <a:ext cx="2221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>
            <a:hlinkClick r:id="rId3" action="ppaction://hlinksldjump"/>
          </p:cNvPr>
          <p:cNvSpPr/>
          <p:nvPr/>
        </p:nvSpPr>
        <p:spPr>
          <a:xfrm>
            <a:off x="39600" y="3352680"/>
            <a:ext cx="223920" cy="21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>
            <a:hlinkClick r:id="rId4" action="ppaction://hlinksldjump"/>
          </p:cNvPr>
          <p:cNvSpPr/>
          <p:nvPr/>
        </p:nvSpPr>
        <p:spPr>
          <a:xfrm>
            <a:off x="44280" y="1770120"/>
            <a:ext cx="211320" cy="14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>
            <a:hlinkClick r:id="rId5" action="ppaction://hlinksldjump"/>
          </p:cNvPr>
          <p:cNvSpPr/>
          <p:nvPr/>
        </p:nvSpPr>
        <p:spPr>
          <a:xfrm>
            <a:off x="34920" y="914400"/>
            <a:ext cx="216000" cy="76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>
            <a:hlinkClick r:id="rId6" action="ppaction://hlinksldjump"/>
          </p:cNvPr>
          <p:cNvSpPr/>
          <p:nvPr/>
        </p:nvSpPr>
        <p:spPr>
          <a:xfrm>
            <a:off x="295200" y="5651640"/>
            <a:ext cx="203400" cy="81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>
            <a:hlinkClick r:id="rId7" action="ppaction://hlinksldjump"/>
          </p:cNvPr>
          <p:cNvSpPr/>
          <p:nvPr/>
        </p:nvSpPr>
        <p:spPr>
          <a:xfrm>
            <a:off x="295200" y="3763800"/>
            <a:ext cx="201600" cy="17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>
            <a:hlinkClick r:id="rId8" action="ppaction://hlinksldjump"/>
          </p:cNvPr>
          <p:cNvSpPr/>
          <p:nvPr/>
        </p:nvSpPr>
        <p:spPr>
          <a:xfrm>
            <a:off x="284040" y="1150920"/>
            <a:ext cx="211320" cy="253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365880" y="76320"/>
            <a:ext cx="2545920" cy="36828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Comic Sans MS"/>
              </a:rPr>
              <a:t>Strategische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800" spc="-1" strike="noStrike">
                <a:solidFill>
                  <a:srgbClr val="3333cc"/>
                </a:solidFill>
                <a:latin typeface="Comic Sans MS"/>
              </a:rPr>
              <a:t>Allianz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16200000">
            <a:off x="77040" y="2132640"/>
            <a:ext cx="231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Grundl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21587400">
            <a:off x="839520" y="4114800"/>
            <a:ext cx="150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Zwe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rot="21587400">
            <a:off x="762840" y="5410080"/>
            <a:ext cx="170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Grün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013040" y="762120"/>
            <a:ext cx="552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c3300"/>
                </a:solidFill>
                <a:latin typeface="Arial Rounded MT Bold"/>
              </a:rPr>
              <a:t>Arbeitsgemeinschaft (ARG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65680" y="1295280"/>
            <a:ext cx="5094000" cy="70380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  <a:ea typeface="Arial"/>
              </a:rPr>
              <a:t>Zusammenschluss von rechtlich 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  <a:ea typeface="Arial"/>
              </a:rPr>
              <a:t>wirtschaftlich selbstständigen Unterneh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71800" y="2133720"/>
            <a:ext cx="5105520" cy="7038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  <a:ea typeface="Arial"/>
              </a:rPr>
              <a:t>horizontalen Zusammenschlu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  <a:ea typeface="Arial"/>
              </a:rPr>
              <a:t>auf vertraglicher Ba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966040" y="4038480"/>
            <a:ext cx="4766400" cy="39888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Durchführung einer bestimmten Aufga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62120" y="3657600"/>
            <a:ext cx="731520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68760" y="380880"/>
            <a:ext cx="215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cc3300"/>
                </a:solidFill>
                <a:latin typeface="Arial Rounded MT Bold"/>
              </a:rPr>
              <a:t>Arbeitsgemeinscha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971800" y="4572000"/>
            <a:ext cx="3697200" cy="100872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Durchführung einer begrenz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nzahl von Verträ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968920" y="5410080"/>
            <a:ext cx="3621960" cy="39888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Hauptsächlich im Baugewer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>
            <a:hlinkClick r:id="rId1" action="ppaction://hlinksldjump"/>
          </p:cNvPr>
          <p:cNvSpPr/>
          <p:nvPr/>
        </p:nvSpPr>
        <p:spPr>
          <a:xfrm>
            <a:off x="7924680" y="52578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4498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12653" y="3794"/>
                </a:lnTo>
                <a:lnTo>
                  <a:pt x="12653" y="17806"/>
                </a:lnTo>
                <a:lnTo>
                  <a:pt x="10991" y="17806"/>
                </a:lnTo>
                <a:close/>
              </a:path>
            </a:pathLst>
          </a:cu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851600" y="574524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um Anfa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rot="16200000">
            <a:off x="-2691360" y="3607920"/>
            <a:ext cx="59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Grundlagen     Strategische Allianzen      Joint Ventures       F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Konzern       rechtliche Fragen      wirtschaftliche Bedeu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>
            <a:hlinkClick r:id="rId2" action="ppaction://hlinksldjump"/>
          </p:cNvPr>
          <p:cNvSpPr/>
          <p:nvPr/>
        </p:nvSpPr>
        <p:spPr>
          <a:xfrm>
            <a:off x="41400" y="5584680"/>
            <a:ext cx="2221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>
            <a:hlinkClick r:id="rId3" action="ppaction://hlinksldjump"/>
          </p:cNvPr>
          <p:cNvSpPr/>
          <p:nvPr/>
        </p:nvSpPr>
        <p:spPr>
          <a:xfrm>
            <a:off x="39600" y="3352680"/>
            <a:ext cx="223920" cy="21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>
            <a:hlinkClick r:id="rId4" action="ppaction://hlinksldjump"/>
          </p:cNvPr>
          <p:cNvSpPr/>
          <p:nvPr/>
        </p:nvSpPr>
        <p:spPr>
          <a:xfrm>
            <a:off x="44280" y="1770120"/>
            <a:ext cx="211320" cy="14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>
            <a:hlinkClick r:id="rId5" action="ppaction://hlinksldjump"/>
          </p:cNvPr>
          <p:cNvSpPr/>
          <p:nvPr/>
        </p:nvSpPr>
        <p:spPr>
          <a:xfrm>
            <a:off x="34920" y="914400"/>
            <a:ext cx="216000" cy="76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>
            <a:hlinkClick r:id="rId6" action="ppaction://hlinksldjump"/>
          </p:cNvPr>
          <p:cNvSpPr/>
          <p:nvPr/>
        </p:nvSpPr>
        <p:spPr>
          <a:xfrm>
            <a:off x="295200" y="5651640"/>
            <a:ext cx="203400" cy="81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>
            <a:hlinkClick r:id="rId7" action="ppaction://hlinksldjump"/>
          </p:cNvPr>
          <p:cNvSpPr/>
          <p:nvPr/>
        </p:nvSpPr>
        <p:spPr>
          <a:xfrm>
            <a:off x="295200" y="3763800"/>
            <a:ext cx="201600" cy="17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>
            <a:hlinkClick r:id="rId8" action="ppaction://hlinksldjump"/>
          </p:cNvPr>
          <p:cNvSpPr/>
          <p:nvPr/>
        </p:nvSpPr>
        <p:spPr>
          <a:xfrm>
            <a:off x="284040" y="1150920"/>
            <a:ext cx="211320" cy="253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365880" y="76320"/>
            <a:ext cx="2545920" cy="36828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Comic Sans MS"/>
              </a:rPr>
              <a:t>Strategische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800" spc="-1" strike="noStrike">
                <a:solidFill>
                  <a:srgbClr val="3333cc"/>
                </a:solidFill>
                <a:latin typeface="Comic Sans MS"/>
              </a:rPr>
              <a:t>Allianz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77040" y="2132640"/>
            <a:ext cx="231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Grundl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484560" y="4393440"/>
            <a:ext cx="150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Zwe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867600" y="762120"/>
            <a:ext cx="24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c3300"/>
                </a:solidFill>
                <a:latin typeface="Arial Rounded MT Bold"/>
              </a:rPr>
              <a:t>Konsort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971800" y="1295280"/>
            <a:ext cx="5029200" cy="70380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Verbindung von Unterneh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uf vertraglicher Ba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971800" y="2209680"/>
            <a:ext cx="5105520" cy="39888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Meist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  <a:ea typeface="Arial"/>
              </a:rPr>
              <a:t>horizontalen Zusammenschlu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4038480"/>
            <a:ext cx="3962520" cy="7038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Durchführung bestimmter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bgegrenzter Projek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62120" y="3657600"/>
            <a:ext cx="731520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341400" y="380880"/>
            <a:ext cx="129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cc3300"/>
                </a:solidFill>
                <a:latin typeface="Arial Rounded MT Bold"/>
              </a:rPr>
              <a:t>Konsorti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968200" y="4876920"/>
            <a:ext cx="4033440" cy="70380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Hauptsächlich im Bankengewer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(Konsortialkredi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656400" y="9954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971800" y="2819520"/>
            <a:ext cx="5105520" cy="70380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Vertretung des Konsortiums gegenüber Dritten durch den Konsortialführ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>
            <a:hlinkClick r:id="rId1" action="ppaction://hlinksldjump"/>
          </p:cNvPr>
          <p:cNvSpPr/>
          <p:nvPr/>
        </p:nvSpPr>
        <p:spPr>
          <a:xfrm>
            <a:off x="7924680" y="52578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4498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12653" y="3794"/>
                </a:lnTo>
                <a:lnTo>
                  <a:pt x="12653" y="17806"/>
                </a:lnTo>
                <a:lnTo>
                  <a:pt x="10991" y="17806"/>
                </a:lnTo>
                <a:close/>
              </a:path>
            </a:pathLst>
          </a:cu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851600" y="574524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um Anfa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rot="16200000">
            <a:off x="-2691360" y="3607920"/>
            <a:ext cx="59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Grundlagen     Strategische Allianzen      Joint Ventures       F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Konzern       rechtliche Fragen      wirtschaftliche Bedeu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>
            <a:hlinkClick r:id="rId2" action="ppaction://hlinksldjump"/>
          </p:cNvPr>
          <p:cNvSpPr/>
          <p:nvPr/>
        </p:nvSpPr>
        <p:spPr>
          <a:xfrm>
            <a:off x="41400" y="5584680"/>
            <a:ext cx="2221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>
            <a:hlinkClick r:id="rId3" action="ppaction://hlinksldjump"/>
          </p:cNvPr>
          <p:cNvSpPr/>
          <p:nvPr/>
        </p:nvSpPr>
        <p:spPr>
          <a:xfrm>
            <a:off x="39600" y="3352680"/>
            <a:ext cx="223920" cy="21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>
            <a:hlinkClick r:id="rId4" action="ppaction://hlinksldjump"/>
          </p:cNvPr>
          <p:cNvSpPr/>
          <p:nvPr/>
        </p:nvSpPr>
        <p:spPr>
          <a:xfrm>
            <a:off x="44280" y="1770120"/>
            <a:ext cx="211320" cy="14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>
            <a:hlinkClick r:id="rId5" action="ppaction://hlinksldjump"/>
          </p:cNvPr>
          <p:cNvSpPr/>
          <p:nvPr/>
        </p:nvSpPr>
        <p:spPr>
          <a:xfrm>
            <a:off x="34920" y="914400"/>
            <a:ext cx="216000" cy="76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>
            <a:hlinkClick r:id="rId6" action="ppaction://hlinksldjump"/>
          </p:cNvPr>
          <p:cNvSpPr/>
          <p:nvPr/>
        </p:nvSpPr>
        <p:spPr>
          <a:xfrm>
            <a:off x="295200" y="5651640"/>
            <a:ext cx="203400" cy="81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>
            <a:hlinkClick r:id="rId7" action="ppaction://hlinksldjump"/>
          </p:cNvPr>
          <p:cNvSpPr/>
          <p:nvPr/>
        </p:nvSpPr>
        <p:spPr>
          <a:xfrm>
            <a:off x="295200" y="3763800"/>
            <a:ext cx="201600" cy="17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>
            <a:hlinkClick r:id="rId8" action="ppaction://hlinksldjump"/>
          </p:cNvPr>
          <p:cNvSpPr/>
          <p:nvPr/>
        </p:nvSpPr>
        <p:spPr>
          <a:xfrm>
            <a:off x="284040" y="1150920"/>
            <a:ext cx="211320" cy="253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365880" y="76320"/>
            <a:ext cx="2545920" cy="36828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Comic Sans MS"/>
              </a:rPr>
              <a:t>Strategische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800" spc="-1" strike="noStrike">
                <a:solidFill>
                  <a:srgbClr val="3333cc"/>
                </a:solidFill>
                <a:latin typeface="Comic Sans MS"/>
              </a:rPr>
              <a:t>Allianz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rot="16200000">
            <a:off x="77040" y="2132640"/>
            <a:ext cx="231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Grundl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484560" y="4393440"/>
            <a:ext cx="150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Zwe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807840" y="762120"/>
            <a:ext cx="15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c3300"/>
                </a:solidFill>
                <a:latin typeface="Arial Rounded MT Bold"/>
              </a:rPr>
              <a:t>Clu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971800" y="914400"/>
            <a:ext cx="5943600" cy="39888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Übergreifendes Netzwerk industrieller Leitbetrie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71800" y="1447920"/>
            <a:ext cx="5943600" cy="7038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Verstärkte Kooperation mit den direkten und indirekten Zuliefer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19520" y="3886200"/>
            <a:ext cx="5029200" cy="39888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Information und Kommunik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62120" y="3657600"/>
            <a:ext cx="731520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48960" y="380880"/>
            <a:ext cx="85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cc3300"/>
                </a:solidFill>
                <a:latin typeface="Arial Rounded MT Bold"/>
              </a:rPr>
              <a:t>Clu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819520" y="4343400"/>
            <a:ext cx="5029200" cy="7038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Zusammenarbeit im Bereich der Aus-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und Weiterbild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656400" y="9954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971800" y="2286000"/>
            <a:ext cx="5943600" cy="100872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Unternehmen arbeiten in einem einheitlichen Markt und bieten zueinander komplementäre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(sich ergänzende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Leistungen 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>
            <a:hlinkClick r:id="rId1" action="ppaction://hlinksldjump"/>
          </p:cNvPr>
          <p:cNvSpPr/>
          <p:nvPr/>
        </p:nvSpPr>
        <p:spPr>
          <a:xfrm>
            <a:off x="8077320" y="5181480"/>
            <a:ext cx="761760" cy="457200"/>
          </a:xfrm>
          <a:custGeom>
            <a:avLst/>
            <a:gdLst>
              <a:gd name="textAreaLeft" fmla="*/ 29520 w 761760"/>
              <a:gd name="textAreaRight" fmla="*/ 732240 w 7617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77" h="21600">
                <a:moveTo>
                  <a:pt x="0" y="0"/>
                </a:moveTo>
                <a:lnTo>
                  <a:pt x="35977" y="0"/>
                </a:lnTo>
                <a:lnTo>
                  <a:pt x="35977" y="21600"/>
                </a:lnTo>
                <a:lnTo>
                  <a:pt x="0" y="21600"/>
                </a:lnTo>
                <a:close/>
              </a:path>
              <a:path fill="lightenLess" w="35977" h="21600">
                <a:moveTo>
                  <a:pt x="0" y="0"/>
                </a:moveTo>
                <a:lnTo>
                  <a:pt x="35977" y="0"/>
                </a:lnTo>
                <a:lnTo>
                  <a:pt x="34577" y="1400"/>
                </a:lnTo>
                <a:lnTo>
                  <a:pt x="1400" y="1400"/>
                </a:lnTo>
                <a:close/>
              </a:path>
              <a:path fill="darken" w="35977" h="21600">
                <a:moveTo>
                  <a:pt x="35977" y="0"/>
                </a:moveTo>
                <a:lnTo>
                  <a:pt x="35977" y="21600"/>
                </a:lnTo>
                <a:lnTo>
                  <a:pt x="34577" y="20200"/>
                </a:lnTo>
                <a:lnTo>
                  <a:pt x="34577" y="1400"/>
                </a:lnTo>
                <a:close/>
              </a:path>
              <a:path fill="darkenLess" w="35977" h="21600">
                <a:moveTo>
                  <a:pt x="35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77" y="20200"/>
                </a:lnTo>
                <a:close/>
              </a:path>
              <a:path fill="lighten" w="35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77" h="21600">
                <a:moveTo>
                  <a:pt x="14490" y="10800"/>
                </a:moveTo>
                <a:lnTo>
                  <a:pt x="24995" y="3794"/>
                </a:lnTo>
                <a:lnTo>
                  <a:pt x="24995" y="17806"/>
                </a:lnTo>
                <a:close/>
              </a:path>
              <a:path fill="darken" w="35977" h="21600">
                <a:moveTo>
                  <a:pt x="10982" y="3794"/>
                </a:moveTo>
                <a:lnTo>
                  <a:pt x="12645" y="3794"/>
                </a:lnTo>
                <a:lnTo>
                  <a:pt x="12645" y="17806"/>
                </a:lnTo>
                <a:lnTo>
                  <a:pt x="10982" y="17806"/>
                </a:lnTo>
                <a:close/>
              </a:path>
            </a:pathLst>
          </a:cu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003880" y="566892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um Anfa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815560" y="5181480"/>
            <a:ext cx="5087880" cy="70380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Kooperationen: F&amp;E, Produktion, Marketing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Logistik, EDV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819520" y="5943600"/>
            <a:ext cx="2471760" cy="7038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Internationalis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rot="16200000">
            <a:off x="-2691360" y="3607920"/>
            <a:ext cx="59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Grundlagen     Strategische Allianzen      Joint Ventures       F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Konzern       rechtliche Fragen      wirtschaftliche Bedeu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>
            <a:hlinkClick r:id="rId2" action="ppaction://hlinksldjump"/>
          </p:cNvPr>
          <p:cNvSpPr/>
          <p:nvPr/>
        </p:nvSpPr>
        <p:spPr>
          <a:xfrm>
            <a:off x="41400" y="5584680"/>
            <a:ext cx="2221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>
            <a:hlinkClick r:id="rId3" action="ppaction://hlinksldjump"/>
          </p:cNvPr>
          <p:cNvSpPr/>
          <p:nvPr/>
        </p:nvSpPr>
        <p:spPr>
          <a:xfrm>
            <a:off x="39600" y="3352680"/>
            <a:ext cx="223920" cy="21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>
            <a:hlinkClick r:id="rId4" action="ppaction://hlinksldjump"/>
          </p:cNvPr>
          <p:cNvSpPr/>
          <p:nvPr/>
        </p:nvSpPr>
        <p:spPr>
          <a:xfrm>
            <a:off x="44280" y="1770120"/>
            <a:ext cx="211320" cy="14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>
            <a:hlinkClick r:id="rId5" action="ppaction://hlinksldjump"/>
          </p:cNvPr>
          <p:cNvSpPr/>
          <p:nvPr/>
        </p:nvSpPr>
        <p:spPr>
          <a:xfrm>
            <a:off x="34920" y="914400"/>
            <a:ext cx="216000" cy="76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>
            <a:hlinkClick r:id="rId6" action="ppaction://hlinksldjump"/>
          </p:cNvPr>
          <p:cNvSpPr/>
          <p:nvPr/>
        </p:nvSpPr>
        <p:spPr>
          <a:xfrm>
            <a:off x="295200" y="5651640"/>
            <a:ext cx="203400" cy="81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>
            <a:hlinkClick r:id="rId7" action="ppaction://hlinksldjump"/>
          </p:cNvPr>
          <p:cNvSpPr/>
          <p:nvPr/>
        </p:nvSpPr>
        <p:spPr>
          <a:xfrm>
            <a:off x="295200" y="3763800"/>
            <a:ext cx="201600" cy="17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>
            <a:hlinkClick r:id="rId8" action="ppaction://hlinksldjump"/>
          </p:cNvPr>
          <p:cNvSpPr/>
          <p:nvPr/>
        </p:nvSpPr>
        <p:spPr>
          <a:xfrm>
            <a:off x="284040" y="1150920"/>
            <a:ext cx="211320" cy="253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65880" y="76320"/>
            <a:ext cx="2545920" cy="36828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Comic Sans MS"/>
              </a:rPr>
              <a:t>Strategische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800" spc="-1" strike="noStrike">
                <a:solidFill>
                  <a:srgbClr val="3333cc"/>
                </a:solidFill>
                <a:latin typeface="Comic Sans MS"/>
              </a:rPr>
              <a:t>Allianz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rot="16200000">
            <a:off x="77040" y="2132640"/>
            <a:ext cx="231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Grundl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rot="16200000">
            <a:off x="484560" y="4393440"/>
            <a:ext cx="150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Zwe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809280" y="762120"/>
            <a:ext cx="141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c3300"/>
                </a:solidFill>
                <a:latin typeface="Arial Rounded MT Bold"/>
              </a:rPr>
              <a:t>Kart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971800" y="1295280"/>
            <a:ext cx="5943600" cy="70380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Horizontaler Zusammenschluss durch vertragliche Absprac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971800" y="2133720"/>
            <a:ext cx="5943600" cy="39888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Keine kapitalmäßige Verflecht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819520" y="3886200"/>
            <a:ext cx="5029200" cy="70380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Marktbeherrschung durch Beschränkung des Wettbewerb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62120" y="3657600"/>
            <a:ext cx="731520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350760" y="380880"/>
            <a:ext cx="79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cc3300"/>
                </a:solidFill>
                <a:latin typeface="Arial Rounded MT Bold"/>
              </a:rPr>
              <a:t>Kart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656400" y="9954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971800" y="2819520"/>
            <a:ext cx="5943600" cy="39888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Rechtliche Selbstständigkeit bleibt erhal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4800600"/>
            <a:ext cx="5029200" cy="7038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Marktbeherrschung durch Beseitigung des Wettbewerb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>
            <a:hlinkClick r:id="" action="ppaction://hlinkshowjump?jump=nextslide"/>
          </p:cNvPr>
          <p:cNvSpPr/>
          <p:nvPr/>
        </p:nvSpPr>
        <p:spPr>
          <a:xfrm>
            <a:off x="8229600" y="55627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009920" y="563868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Nächste Fol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rot="16200000">
            <a:off x="-2691360" y="3607920"/>
            <a:ext cx="59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Grundlagen     Strategische Allianzen      Joint Ventures       F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Konzern       rechtliche Fragen      wirtschaftliche Bedeu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>
            <a:hlinkClick r:id="rId1" action="ppaction://hlinksldjump"/>
          </p:cNvPr>
          <p:cNvSpPr/>
          <p:nvPr/>
        </p:nvSpPr>
        <p:spPr>
          <a:xfrm>
            <a:off x="41400" y="5584680"/>
            <a:ext cx="2221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>
            <a:hlinkClick r:id="rId2" action="ppaction://hlinksldjump"/>
          </p:cNvPr>
          <p:cNvSpPr/>
          <p:nvPr/>
        </p:nvSpPr>
        <p:spPr>
          <a:xfrm>
            <a:off x="39600" y="3352680"/>
            <a:ext cx="223920" cy="21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>
            <a:hlinkClick r:id="rId3" action="ppaction://hlinksldjump"/>
          </p:cNvPr>
          <p:cNvSpPr/>
          <p:nvPr/>
        </p:nvSpPr>
        <p:spPr>
          <a:xfrm>
            <a:off x="44280" y="1770120"/>
            <a:ext cx="211320" cy="14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>
            <a:hlinkClick r:id="rId4" action="ppaction://hlinksldjump"/>
          </p:cNvPr>
          <p:cNvSpPr/>
          <p:nvPr/>
        </p:nvSpPr>
        <p:spPr>
          <a:xfrm>
            <a:off x="34920" y="914400"/>
            <a:ext cx="216000" cy="76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>
            <a:hlinkClick r:id="rId5" action="ppaction://hlinksldjump"/>
          </p:cNvPr>
          <p:cNvSpPr/>
          <p:nvPr/>
        </p:nvSpPr>
        <p:spPr>
          <a:xfrm>
            <a:off x="295200" y="5651640"/>
            <a:ext cx="203400" cy="81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>
            <a:hlinkClick r:id="rId6" action="ppaction://hlinksldjump"/>
          </p:cNvPr>
          <p:cNvSpPr/>
          <p:nvPr/>
        </p:nvSpPr>
        <p:spPr>
          <a:xfrm>
            <a:off x="295200" y="3763800"/>
            <a:ext cx="201600" cy="17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>
            <a:hlinkClick r:id="rId7" action="ppaction://hlinksldjump"/>
          </p:cNvPr>
          <p:cNvSpPr/>
          <p:nvPr/>
        </p:nvSpPr>
        <p:spPr>
          <a:xfrm>
            <a:off x="284040" y="1150920"/>
            <a:ext cx="211320" cy="253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365880" y="76320"/>
            <a:ext cx="2545920" cy="36828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Comic Sans MS"/>
              </a:rPr>
              <a:t>Strategische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800" spc="-1" strike="noStrike">
                <a:solidFill>
                  <a:srgbClr val="3333cc"/>
                </a:solidFill>
                <a:latin typeface="Comic Sans MS"/>
              </a:rPr>
              <a:t>Allianz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rot="16200000">
            <a:off x="77040" y="2132640"/>
            <a:ext cx="231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Grundl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rot="16200000">
            <a:off x="484560" y="4393440"/>
            <a:ext cx="150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Zwe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822600" y="762120"/>
            <a:ext cx="243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c3300"/>
                </a:solidFill>
                <a:latin typeface="Arial Rounded MT Bold"/>
              </a:rPr>
              <a:t>Kartellar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62120" y="1295280"/>
            <a:ext cx="8153280" cy="82548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Konditionenkartelle</a:t>
            </a:r>
            <a:br>
              <a:rPr sz="28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bsprachen im Bereich Absatz- und Geschäftsbeding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350760" y="380880"/>
            <a:ext cx="79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cc3300"/>
                </a:solidFill>
                <a:latin typeface="Arial Rounded MT Bold"/>
              </a:rPr>
              <a:t>Kart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>
            <a:hlinkClick r:id="rId1" action="ppaction://hlinksldjump"/>
          </p:cNvPr>
          <p:cNvSpPr/>
          <p:nvPr/>
        </p:nvSpPr>
        <p:spPr>
          <a:xfrm>
            <a:off x="8077320" y="5181480"/>
            <a:ext cx="761760" cy="457200"/>
          </a:xfrm>
          <a:custGeom>
            <a:avLst/>
            <a:gdLst>
              <a:gd name="textAreaLeft" fmla="*/ 29520 w 761760"/>
              <a:gd name="textAreaRight" fmla="*/ 732240 w 7617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77" h="21600">
                <a:moveTo>
                  <a:pt x="0" y="0"/>
                </a:moveTo>
                <a:lnTo>
                  <a:pt x="35977" y="0"/>
                </a:lnTo>
                <a:lnTo>
                  <a:pt x="35977" y="21600"/>
                </a:lnTo>
                <a:lnTo>
                  <a:pt x="0" y="21600"/>
                </a:lnTo>
                <a:close/>
              </a:path>
              <a:path fill="lightenLess" w="35977" h="21600">
                <a:moveTo>
                  <a:pt x="0" y="0"/>
                </a:moveTo>
                <a:lnTo>
                  <a:pt x="35977" y="0"/>
                </a:lnTo>
                <a:lnTo>
                  <a:pt x="34577" y="1400"/>
                </a:lnTo>
                <a:lnTo>
                  <a:pt x="1400" y="1400"/>
                </a:lnTo>
                <a:close/>
              </a:path>
              <a:path fill="darken" w="35977" h="21600">
                <a:moveTo>
                  <a:pt x="35977" y="0"/>
                </a:moveTo>
                <a:lnTo>
                  <a:pt x="35977" y="21600"/>
                </a:lnTo>
                <a:lnTo>
                  <a:pt x="34577" y="20200"/>
                </a:lnTo>
                <a:lnTo>
                  <a:pt x="34577" y="1400"/>
                </a:lnTo>
                <a:close/>
              </a:path>
              <a:path fill="darkenLess" w="35977" h="21600">
                <a:moveTo>
                  <a:pt x="35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77" y="20200"/>
                </a:lnTo>
                <a:close/>
              </a:path>
              <a:path fill="lighten" w="35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77" h="21600">
                <a:moveTo>
                  <a:pt x="14490" y="10800"/>
                </a:moveTo>
                <a:lnTo>
                  <a:pt x="24995" y="3794"/>
                </a:lnTo>
                <a:lnTo>
                  <a:pt x="24995" y="17806"/>
                </a:lnTo>
                <a:close/>
              </a:path>
              <a:path fill="darken" w="35977" h="21600">
                <a:moveTo>
                  <a:pt x="10982" y="3794"/>
                </a:moveTo>
                <a:lnTo>
                  <a:pt x="12645" y="3794"/>
                </a:lnTo>
                <a:lnTo>
                  <a:pt x="12645" y="17806"/>
                </a:lnTo>
                <a:lnTo>
                  <a:pt x="10982" y="17806"/>
                </a:lnTo>
                <a:close/>
              </a:path>
            </a:pathLst>
          </a:cu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003880" y="566892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um Anfa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62120" y="2286000"/>
            <a:ext cx="8153280" cy="11304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Preiskartelle</a:t>
            </a:r>
            <a:br>
              <a:rPr sz="28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Kalkulationskartell, Mindestpreiskartell, Einheitspreiskartell, Rabattkartell, Markenschutzkartell, Submissionskart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62120" y="3657600"/>
            <a:ext cx="8153280" cy="113040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Produktionskartelle</a:t>
            </a:r>
            <a:br>
              <a:rPr sz="28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Normungskartell, Typisierungskartell, Patentverwertungskartell, Kontingentierungskartell, Spezialisierungskart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" y="5029200"/>
            <a:ext cx="6172200" cy="11304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Absatzkartell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rodukte werden über gemeinsame Verkaufsstellen abgesetzt (besonders im Exportbereich anzutreff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rot="16200000">
            <a:off x="-2691360" y="3607920"/>
            <a:ext cx="59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Grundlagen     Strategische Allianzen      Joint Ventures       F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Konzern       rechtliche Fragen      wirtschaftliche Bedeu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>
            <a:hlinkClick r:id="rId2" action="ppaction://hlinksldjump"/>
          </p:cNvPr>
          <p:cNvSpPr/>
          <p:nvPr/>
        </p:nvSpPr>
        <p:spPr>
          <a:xfrm>
            <a:off x="41400" y="5584680"/>
            <a:ext cx="2221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>
            <a:hlinkClick r:id="rId3" action="ppaction://hlinksldjump"/>
          </p:cNvPr>
          <p:cNvSpPr/>
          <p:nvPr/>
        </p:nvSpPr>
        <p:spPr>
          <a:xfrm>
            <a:off x="39600" y="3352680"/>
            <a:ext cx="223920" cy="21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>
            <a:hlinkClick r:id="rId4" action="ppaction://hlinksldjump"/>
          </p:cNvPr>
          <p:cNvSpPr/>
          <p:nvPr/>
        </p:nvSpPr>
        <p:spPr>
          <a:xfrm>
            <a:off x="44280" y="1770120"/>
            <a:ext cx="211320" cy="14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>
            <a:hlinkClick r:id="rId5" action="ppaction://hlinksldjump"/>
          </p:cNvPr>
          <p:cNvSpPr/>
          <p:nvPr/>
        </p:nvSpPr>
        <p:spPr>
          <a:xfrm>
            <a:off x="34920" y="914400"/>
            <a:ext cx="216000" cy="76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>
            <a:hlinkClick r:id="rId6" action="ppaction://hlinksldjump"/>
          </p:cNvPr>
          <p:cNvSpPr/>
          <p:nvPr/>
        </p:nvSpPr>
        <p:spPr>
          <a:xfrm>
            <a:off x="295200" y="5651640"/>
            <a:ext cx="203400" cy="81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>
            <a:hlinkClick r:id="rId7" action="ppaction://hlinksldjump"/>
          </p:cNvPr>
          <p:cNvSpPr/>
          <p:nvPr/>
        </p:nvSpPr>
        <p:spPr>
          <a:xfrm>
            <a:off x="295200" y="3763800"/>
            <a:ext cx="201600" cy="17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>
            <a:hlinkClick r:id="rId8" action="ppaction://hlinksldjump"/>
          </p:cNvPr>
          <p:cNvSpPr/>
          <p:nvPr/>
        </p:nvSpPr>
        <p:spPr>
          <a:xfrm>
            <a:off x="284040" y="1150920"/>
            <a:ext cx="211320" cy="253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365880" y="76320"/>
            <a:ext cx="2545920" cy="36828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Comic Sans MS"/>
              </a:rPr>
              <a:t>Strategische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800" spc="-1" strike="noStrike">
                <a:solidFill>
                  <a:srgbClr val="3333cc"/>
                </a:solidFill>
                <a:latin typeface="Comic Sans MS"/>
              </a:rPr>
              <a:t>Allianz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785160" y="76212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c3300"/>
                </a:solidFill>
                <a:latin typeface="Arial Rounded MT Bold"/>
              </a:rPr>
              <a:t>Joint Ven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971800" y="1295280"/>
            <a:ext cx="5943600" cy="70380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Kooperation eines Unternehmens mit ausländischen Partner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971800" y="2133720"/>
            <a:ext cx="5943600" cy="39888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ründung eines eigenen Unternehm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819520" y="3886200"/>
            <a:ext cx="5029200" cy="70380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ufeinandertreffen von Vertragspartner aus unterschiedlichen Kulturkrei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85800" y="3657600"/>
            <a:ext cx="739152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656400" y="9954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971800" y="2819520"/>
            <a:ext cx="5943600" cy="39888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kapitalmäßige Beteilig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819520" y="4800600"/>
            <a:ext cx="5029200" cy="7038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Mangelnde Transparenz zwischen den Vertragspartn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>
            <a:hlinkClick r:id="" action="ppaction://hlinkshowjump?jump=nextslide"/>
          </p:cNvPr>
          <p:cNvSpPr/>
          <p:nvPr/>
        </p:nvSpPr>
        <p:spPr>
          <a:xfrm>
            <a:off x="8229600" y="55627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009920" y="563868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Nächste Fol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705720" y="152280"/>
            <a:ext cx="2189160" cy="39888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Comic Sans MS"/>
              </a:rPr>
              <a:t>Joint Ven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819520" y="5715000"/>
            <a:ext cx="4038480" cy="70380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Fehlende oder belastete Vertrauensba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rot="16200000">
            <a:off x="-2691360" y="3607920"/>
            <a:ext cx="59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Grundlagen     Strategische Allianzen      Joint Ventures       F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Konzern       rechtliche Fragen      wirtschaftliche Bedeu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>
            <a:hlinkClick r:id="rId1" action="ppaction://hlinksldjump"/>
          </p:cNvPr>
          <p:cNvSpPr/>
          <p:nvPr/>
        </p:nvSpPr>
        <p:spPr>
          <a:xfrm>
            <a:off x="41400" y="5584680"/>
            <a:ext cx="2221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>
            <a:hlinkClick r:id="rId2" action="ppaction://hlinksldjump"/>
          </p:cNvPr>
          <p:cNvSpPr/>
          <p:nvPr/>
        </p:nvSpPr>
        <p:spPr>
          <a:xfrm>
            <a:off x="39600" y="3352680"/>
            <a:ext cx="223920" cy="21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>
            <a:hlinkClick r:id="rId3" action="ppaction://hlinksldjump"/>
          </p:cNvPr>
          <p:cNvSpPr/>
          <p:nvPr/>
        </p:nvSpPr>
        <p:spPr>
          <a:xfrm>
            <a:off x="44280" y="1770120"/>
            <a:ext cx="211320" cy="14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>
            <a:hlinkClick r:id="rId4" action="ppaction://hlinksldjump"/>
          </p:cNvPr>
          <p:cNvSpPr/>
          <p:nvPr/>
        </p:nvSpPr>
        <p:spPr>
          <a:xfrm>
            <a:off x="34920" y="914400"/>
            <a:ext cx="216000" cy="76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>
            <a:hlinkClick r:id="rId5" action="ppaction://hlinksldjump"/>
          </p:cNvPr>
          <p:cNvSpPr/>
          <p:nvPr/>
        </p:nvSpPr>
        <p:spPr>
          <a:xfrm>
            <a:off x="295200" y="5651640"/>
            <a:ext cx="203400" cy="81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>
            <a:hlinkClick r:id="rId6" action="ppaction://hlinksldjump"/>
          </p:cNvPr>
          <p:cNvSpPr/>
          <p:nvPr/>
        </p:nvSpPr>
        <p:spPr>
          <a:xfrm>
            <a:off x="295200" y="3763800"/>
            <a:ext cx="201600" cy="17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>
            <a:hlinkClick r:id="rId7" action="ppaction://hlinksldjump"/>
          </p:cNvPr>
          <p:cNvSpPr/>
          <p:nvPr/>
        </p:nvSpPr>
        <p:spPr>
          <a:xfrm>
            <a:off x="284040" y="1150920"/>
            <a:ext cx="211320" cy="253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rot="16200000">
            <a:off x="77040" y="2132640"/>
            <a:ext cx="231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Grundl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16200000">
            <a:off x="165960" y="4710960"/>
            <a:ext cx="213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Proble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 rot="19800000">
            <a:off x="853560" y="2747880"/>
            <a:ext cx="8031960" cy="207324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dffefe"/>
              </a:gs>
            </a:gsLst>
            <a:lin ang="5400000"/>
          </a:gra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6500" spc="-1" strike="noStrike">
                <a:solidFill>
                  <a:srgbClr val="000000"/>
                </a:solidFill>
                <a:latin typeface="Arial"/>
              </a:rPr>
              <a:t>Gründe die zu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6500" spc="-1" strike="noStrike">
                <a:solidFill>
                  <a:srgbClr val="000000"/>
                </a:solidFill>
                <a:latin typeface="Arial"/>
              </a:rPr>
              <a:t>Joint Ventures führen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223280" y="6164280"/>
            <a:ext cx="5405040" cy="520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Rechtlicher Zwang zur Gründ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66080" y="906480"/>
            <a:ext cx="5406480" cy="5205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Teilung/Reduzierung von Risi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594160" y="1592280"/>
            <a:ext cx="4041000" cy="9471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Verringerung/Abbau v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arkteintrittsbarri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072440" y="2735280"/>
            <a:ext cx="6017760" cy="5205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Umgehung von Handelshemmni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908000" y="3421080"/>
            <a:ext cx="6179040" cy="520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Rascher Zugang zu Marktkenntni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41680" y="5554800"/>
            <a:ext cx="6218640" cy="5205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tärken der Partner werden gebünde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284840" y="4183200"/>
            <a:ext cx="6060240" cy="9471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Nutzung der Fähigkeiten/Ressourc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des Part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705720" y="152280"/>
            <a:ext cx="2189160" cy="39888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Comic Sans MS"/>
              </a:rPr>
              <a:t>Joint Ven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>
            <a:hlinkClick r:id="rId1" action="ppaction://hlinksldjump"/>
          </p:cNvPr>
          <p:cNvSpPr/>
          <p:nvPr/>
        </p:nvSpPr>
        <p:spPr>
          <a:xfrm>
            <a:off x="7924680" y="52578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4498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12653" y="3794"/>
                </a:lnTo>
                <a:lnTo>
                  <a:pt x="12653" y="17806"/>
                </a:lnTo>
                <a:lnTo>
                  <a:pt x="10991" y="17806"/>
                </a:lnTo>
                <a:close/>
              </a:path>
            </a:pathLst>
          </a:cu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851600" y="574524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um Anfa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rot="16200000">
            <a:off x="-2691360" y="3607920"/>
            <a:ext cx="59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Grundlagen     Strategische Allianzen      Joint Ventures       F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Konzern       rechtliche Fragen      wirtschaftliche Bedeu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>
            <a:hlinkClick r:id="rId2" action="ppaction://hlinksldjump"/>
          </p:cNvPr>
          <p:cNvSpPr/>
          <p:nvPr/>
        </p:nvSpPr>
        <p:spPr>
          <a:xfrm>
            <a:off x="41400" y="5584680"/>
            <a:ext cx="2221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>
            <a:hlinkClick r:id="rId3" action="ppaction://hlinksldjump"/>
          </p:cNvPr>
          <p:cNvSpPr/>
          <p:nvPr/>
        </p:nvSpPr>
        <p:spPr>
          <a:xfrm>
            <a:off x="39600" y="3352680"/>
            <a:ext cx="223920" cy="21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>
            <a:hlinkClick r:id="rId4" action="ppaction://hlinksldjump"/>
          </p:cNvPr>
          <p:cNvSpPr/>
          <p:nvPr/>
        </p:nvSpPr>
        <p:spPr>
          <a:xfrm>
            <a:off x="44280" y="1770120"/>
            <a:ext cx="211320" cy="14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>
            <a:hlinkClick r:id="rId5" action="ppaction://hlinksldjump"/>
          </p:cNvPr>
          <p:cNvSpPr/>
          <p:nvPr/>
        </p:nvSpPr>
        <p:spPr>
          <a:xfrm>
            <a:off x="34920" y="914400"/>
            <a:ext cx="216000" cy="76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>
            <a:hlinkClick r:id="rId6" action="ppaction://hlinksldjump"/>
          </p:cNvPr>
          <p:cNvSpPr/>
          <p:nvPr/>
        </p:nvSpPr>
        <p:spPr>
          <a:xfrm>
            <a:off x="295200" y="5651640"/>
            <a:ext cx="203400" cy="81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>
            <a:hlinkClick r:id="rId7" action="ppaction://hlinksldjump"/>
          </p:cNvPr>
          <p:cNvSpPr/>
          <p:nvPr/>
        </p:nvSpPr>
        <p:spPr>
          <a:xfrm>
            <a:off x="295200" y="3763800"/>
            <a:ext cx="201600" cy="17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>
            <a:hlinkClick r:id="rId8" action="ppaction://hlinksldjump"/>
          </p:cNvPr>
          <p:cNvSpPr/>
          <p:nvPr/>
        </p:nvSpPr>
        <p:spPr>
          <a:xfrm>
            <a:off x="284040" y="1150920"/>
            <a:ext cx="211320" cy="253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803880" y="762120"/>
            <a:ext cx="177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c3300"/>
                </a:solidFill>
                <a:latin typeface="Arial Rounded MT Bold"/>
              </a:rPr>
              <a:t>Konze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971800" y="1295280"/>
            <a:ext cx="5943600" cy="39888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Unternehmen bleiben rechtlich Selbstständ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971800" y="1828800"/>
            <a:ext cx="5943600" cy="39888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kapitalmäßige Verflecht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19520" y="3886200"/>
            <a:ext cx="5029200" cy="39888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Rationalisierung und Kostensenk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62120" y="3657600"/>
            <a:ext cx="731520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656400" y="9954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971800" y="2438280"/>
            <a:ext cx="5943600" cy="70380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Zusammenschluss unter eine einheitliche Leitung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(wirtschaftliche Selbstständigkeit geht verlohr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819520" y="4419720"/>
            <a:ext cx="5029200" cy="39888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Marktbeherrsch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>
            <a:hlinkClick r:id="" action="ppaction://hlinkshowjump?jump=nextslide"/>
          </p:cNvPr>
          <p:cNvSpPr/>
          <p:nvPr/>
        </p:nvSpPr>
        <p:spPr>
          <a:xfrm>
            <a:off x="8229600" y="55627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009920" y="563868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Nächste Fol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705720" y="152280"/>
            <a:ext cx="2189160" cy="39888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Comic Sans MS"/>
              </a:rPr>
              <a:t>Konz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819520" y="4952880"/>
            <a:ext cx="5029200" cy="39888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Verbreiterung der Kapitalba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19520" y="6248520"/>
            <a:ext cx="3886200" cy="39888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Risikostreu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819520" y="5410080"/>
            <a:ext cx="3886200" cy="7038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Optimierung der Besteuerung durch Gewinnverlag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-2691360" y="3607920"/>
            <a:ext cx="59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Grundlagen     Strategische Allianzen      Joint Ventures       F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Konzern       rechtliche Fragen      wirtschaftliche Bedeu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>
            <a:hlinkClick r:id="rId1" action="ppaction://hlinksldjump"/>
          </p:cNvPr>
          <p:cNvSpPr/>
          <p:nvPr/>
        </p:nvSpPr>
        <p:spPr>
          <a:xfrm>
            <a:off x="41400" y="5584680"/>
            <a:ext cx="2221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>
            <a:hlinkClick r:id="rId2" action="ppaction://hlinksldjump"/>
          </p:cNvPr>
          <p:cNvSpPr/>
          <p:nvPr/>
        </p:nvSpPr>
        <p:spPr>
          <a:xfrm>
            <a:off x="39600" y="3352680"/>
            <a:ext cx="223920" cy="21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>
            <a:hlinkClick r:id="rId3" action="ppaction://hlinksldjump"/>
          </p:cNvPr>
          <p:cNvSpPr/>
          <p:nvPr/>
        </p:nvSpPr>
        <p:spPr>
          <a:xfrm>
            <a:off x="44280" y="1770120"/>
            <a:ext cx="211320" cy="14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>
            <a:hlinkClick r:id="rId4" action="ppaction://hlinksldjump"/>
          </p:cNvPr>
          <p:cNvSpPr/>
          <p:nvPr/>
        </p:nvSpPr>
        <p:spPr>
          <a:xfrm>
            <a:off x="34920" y="914400"/>
            <a:ext cx="216000" cy="76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>
            <a:hlinkClick r:id="rId5" action="ppaction://hlinksldjump"/>
          </p:cNvPr>
          <p:cNvSpPr/>
          <p:nvPr/>
        </p:nvSpPr>
        <p:spPr>
          <a:xfrm>
            <a:off x="295200" y="5651640"/>
            <a:ext cx="203400" cy="81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>
            <a:hlinkClick r:id="rId6" action="ppaction://hlinksldjump"/>
          </p:cNvPr>
          <p:cNvSpPr/>
          <p:nvPr/>
        </p:nvSpPr>
        <p:spPr>
          <a:xfrm>
            <a:off x="295200" y="3763800"/>
            <a:ext cx="201600" cy="17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>
            <a:hlinkClick r:id="rId7" action="ppaction://hlinksldjump"/>
          </p:cNvPr>
          <p:cNvSpPr/>
          <p:nvPr/>
        </p:nvSpPr>
        <p:spPr>
          <a:xfrm>
            <a:off x="284040" y="1150920"/>
            <a:ext cx="211320" cy="253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rot="16200000">
            <a:off x="77040" y="2132640"/>
            <a:ext cx="231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Grundl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rot="16200000">
            <a:off x="382320" y="4647240"/>
            <a:ext cx="170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Grün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830880" y="762120"/>
            <a:ext cx="364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c3300"/>
                </a:solidFill>
                <a:latin typeface="Arial Rounded MT Bold"/>
              </a:rPr>
              <a:t>Konzern - Begrif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705720" y="152280"/>
            <a:ext cx="2189160" cy="39888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Comic Sans MS"/>
              </a:rPr>
              <a:t>Konz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62120" y="1295280"/>
            <a:ext cx="8153280" cy="228852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Arial"/>
                <a:ea typeface="Arial"/>
              </a:rPr>
              <a:t>Horizontaler Konz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leiche Branche, gleiche Produktionsstu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Arial"/>
                <a:ea typeface="Arial"/>
              </a:rPr>
              <a:t>Vertikaler Konz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leiche Branche, aufeinander folgende Produktionsstuf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Arial"/>
                <a:ea typeface="Arial"/>
              </a:rPr>
              <a:t>Diagonaler Konz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ranchenfremde Unternehmen, unterschiedliche Produktionsstuf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62120" y="3657600"/>
            <a:ext cx="8153280" cy="94716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Muttergesellschaft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(herrschende Gesellscha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Tochtergesellschaft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(beherrschte Gesellscha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6172200" cy="180036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Unterordnungskonz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Gleichordnungskonz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Hol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Multinationale Gesellschaf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>
            <a:hlinkClick r:id="rId1" action="ppaction://hlinksldjump"/>
          </p:cNvPr>
          <p:cNvSpPr/>
          <p:nvPr/>
        </p:nvSpPr>
        <p:spPr>
          <a:xfrm>
            <a:off x="7924680" y="52578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4498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12653" y="3794"/>
                </a:lnTo>
                <a:lnTo>
                  <a:pt x="12653" y="17806"/>
                </a:lnTo>
                <a:lnTo>
                  <a:pt x="10991" y="17806"/>
                </a:lnTo>
                <a:close/>
              </a:path>
            </a:pathLst>
          </a:cu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851600" y="574524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um Anfa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rot="16200000">
            <a:off x="-2691360" y="3607920"/>
            <a:ext cx="59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Grundlagen     Strategische Allianzen      Joint Ventures       F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Konzern       rechtliche Fragen      wirtschaftliche Bedeu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>
            <a:hlinkClick r:id="rId2" action="ppaction://hlinksldjump"/>
          </p:cNvPr>
          <p:cNvSpPr/>
          <p:nvPr/>
        </p:nvSpPr>
        <p:spPr>
          <a:xfrm>
            <a:off x="41400" y="5584680"/>
            <a:ext cx="2221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>
            <a:hlinkClick r:id="rId3" action="ppaction://hlinksldjump"/>
          </p:cNvPr>
          <p:cNvSpPr/>
          <p:nvPr/>
        </p:nvSpPr>
        <p:spPr>
          <a:xfrm>
            <a:off x="39600" y="3352680"/>
            <a:ext cx="223920" cy="21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>
            <a:hlinkClick r:id="rId4" action="ppaction://hlinksldjump"/>
          </p:cNvPr>
          <p:cNvSpPr/>
          <p:nvPr/>
        </p:nvSpPr>
        <p:spPr>
          <a:xfrm>
            <a:off x="44280" y="1770120"/>
            <a:ext cx="211320" cy="14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>
            <a:hlinkClick r:id="rId5" action="ppaction://hlinksldjump"/>
          </p:cNvPr>
          <p:cNvSpPr/>
          <p:nvPr/>
        </p:nvSpPr>
        <p:spPr>
          <a:xfrm>
            <a:off x="34920" y="914400"/>
            <a:ext cx="216000" cy="76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>
            <a:hlinkClick r:id="rId6" action="ppaction://hlinksldjump"/>
          </p:cNvPr>
          <p:cNvSpPr/>
          <p:nvPr/>
        </p:nvSpPr>
        <p:spPr>
          <a:xfrm>
            <a:off x="295200" y="5651640"/>
            <a:ext cx="203400" cy="81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>
            <a:hlinkClick r:id="rId7" action="ppaction://hlinksldjump"/>
          </p:cNvPr>
          <p:cNvSpPr/>
          <p:nvPr/>
        </p:nvSpPr>
        <p:spPr>
          <a:xfrm>
            <a:off x="295200" y="3763800"/>
            <a:ext cx="201600" cy="17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>
            <a:hlinkClick r:id="rId8" action="ppaction://hlinksldjump"/>
          </p:cNvPr>
          <p:cNvSpPr/>
          <p:nvPr/>
        </p:nvSpPr>
        <p:spPr>
          <a:xfrm>
            <a:off x="284040" y="1150920"/>
            <a:ext cx="211320" cy="253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705920" y="838080"/>
            <a:ext cx="2742480" cy="64260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333cc"/>
                </a:solidFill>
                <a:latin typeface="Comic Sans MS"/>
              </a:rPr>
              <a:t>Grundlag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64840" y="4952880"/>
            <a:ext cx="4005720" cy="64260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333cc"/>
                </a:solidFill>
                <a:latin typeface="Comic Sans MS"/>
              </a:rPr>
              <a:t>Rechtliche</a:t>
            </a:r>
            <a:r>
              <a:rPr b="0" lang="de-DE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3600" spc="-1" strike="noStrike">
                <a:solidFill>
                  <a:srgbClr val="3333cc"/>
                </a:solidFill>
                <a:latin typeface="Comic Sans MS"/>
              </a:rPr>
              <a:t>Frag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6920" y="3962520"/>
            <a:ext cx="1812960" cy="73404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3333cc"/>
                </a:solidFill>
                <a:latin typeface="Comic Sans MS"/>
              </a:rPr>
              <a:t>Fus</a:t>
            </a:r>
            <a:r>
              <a:rPr b="0" lang="de-DE" sz="3600" spc="-1" strike="noStrike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de-DE" sz="4200" spc="-1" strike="noStrike">
                <a:solidFill>
                  <a:srgbClr val="3333cc"/>
                </a:solidFill>
                <a:latin typeface="Comic Sans MS"/>
              </a:rPr>
              <a:t>o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02880" y="3962520"/>
            <a:ext cx="2265480" cy="73404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3333cc"/>
                </a:solidFill>
                <a:latin typeface="Comic Sans MS"/>
              </a:rPr>
              <a:t>Konzer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84440" y="2971800"/>
            <a:ext cx="3231720" cy="82512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333cc"/>
                </a:solidFill>
                <a:latin typeface="Comic Sans MS"/>
              </a:rPr>
              <a:t>Joint</a:t>
            </a:r>
            <a:r>
              <a:rPr b="0" lang="de-DE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3600" spc="-1" strike="noStrike">
                <a:solidFill>
                  <a:srgbClr val="3333cc"/>
                </a:solidFill>
                <a:latin typeface="Comic Sans MS"/>
              </a:rPr>
              <a:t>Vent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1600200"/>
            <a:ext cx="8153280" cy="137376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333cc"/>
                </a:solidFill>
                <a:latin typeface="Comic Sans MS"/>
              </a:rPr>
              <a:t>Strategische</a:t>
            </a:r>
            <a:r>
              <a:rPr b="0" lang="de-DE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3600" spc="-1" strike="noStrike">
                <a:solidFill>
                  <a:srgbClr val="3333cc"/>
                </a:solidFill>
                <a:latin typeface="Comic Sans MS"/>
              </a:rPr>
              <a:t>Allianz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25120" y="5791320"/>
            <a:ext cx="6023880" cy="94752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333cc"/>
                </a:solidFill>
                <a:latin typeface="Comic Sans MS"/>
              </a:rPr>
              <a:t>Wirtschaftliche</a:t>
            </a:r>
            <a:r>
              <a:rPr b="0" lang="de-DE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3600" spc="-1" strike="noStrike">
                <a:solidFill>
                  <a:srgbClr val="3333cc"/>
                </a:solidFill>
                <a:latin typeface="Comic Sans MS"/>
              </a:rPr>
              <a:t>Bedeut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Comic Sans MS"/>
              </a:rPr>
              <a:t>der Kooperations- und Globalisierungsstrateg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66120" y="1600200"/>
            <a:ext cx="29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3300"/>
                </a:solidFill>
                <a:latin typeface="Arial Rounded MT Bold"/>
              </a:rPr>
              <a:t>Interessensgemeinscha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68520" y="1905120"/>
            <a:ext cx="240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3300"/>
                </a:solidFill>
                <a:latin typeface="Arial Rounded MT Bold"/>
              </a:rPr>
              <a:t>Arbeitsgemeinscha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92760" y="2286000"/>
            <a:ext cx="14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3300"/>
                </a:solidFill>
                <a:latin typeface="Arial Rounded MT Bold"/>
              </a:rPr>
              <a:t>Konsort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46400" y="228600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3300"/>
                </a:solidFill>
                <a:latin typeface="Arial Rounded MT Bold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505200" y="228600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3300"/>
                </a:solidFill>
                <a:latin typeface="Arial Rounded MT Bold"/>
              </a:rPr>
              <a:t>Karte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1" action="ppaction://hlinksldjump"/>
          </p:cNvPr>
          <p:cNvSpPr/>
          <p:nvPr/>
        </p:nvSpPr>
        <p:spPr>
          <a:xfrm>
            <a:off x="685800" y="1752480"/>
            <a:ext cx="5029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2" action="ppaction://hlinksldjump"/>
          </p:cNvPr>
          <p:cNvSpPr/>
          <p:nvPr/>
        </p:nvSpPr>
        <p:spPr>
          <a:xfrm>
            <a:off x="4724280" y="838080"/>
            <a:ext cx="2667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3" action="ppaction://hlinksldjump"/>
          </p:cNvPr>
          <p:cNvSpPr/>
          <p:nvPr/>
        </p:nvSpPr>
        <p:spPr>
          <a:xfrm>
            <a:off x="5791320" y="1676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4" action="ppaction://hlinksldjump"/>
          </p:cNvPr>
          <p:cNvSpPr/>
          <p:nvPr/>
        </p:nvSpPr>
        <p:spPr>
          <a:xfrm>
            <a:off x="5791320" y="1981080"/>
            <a:ext cx="2859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5" action="ppaction://hlinksldjump"/>
          </p:cNvPr>
          <p:cNvSpPr/>
          <p:nvPr/>
        </p:nvSpPr>
        <p:spPr>
          <a:xfrm>
            <a:off x="4876920" y="236232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BD05515_" descr=""/>
          <p:cNvPicPr/>
          <p:nvPr/>
        </p:nvPicPr>
        <p:blipFill>
          <a:blip r:embed="rId6"/>
          <a:stretch/>
        </p:blipFill>
        <p:spPr>
          <a:xfrm>
            <a:off x="6553080" y="3048120"/>
            <a:ext cx="2286000" cy="1873080"/>
          </a:xfrm>
          <a:prstGeom prst="rect">
            <a:avLst/>
          </a:prstGeom>
          <a:ln w="0">
            <a:noFill/>
          </a:ln>
        </p:spPr>
      </p:pic>
      <p:sp>
        <p:nvSpPr>
          <p:cNvPr id="78" name="">
            <a:hlinkClick r:id="rId7" action="ppaction://hlinksldjump"/>
          </p:cNvPr>
          <p:cNvSpPr/>
          <p:nvPr/>
        </p:nvSpPr>
        <p:spPr>
          <a:xfrm>
            <a:off x="7620120" y="2362320"/>
            <a:ext cx="990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8" action="ppaction://hlinksldjump"/>
          </p:cNvPr>
          <p:cNvSpPr/>
          <p:nvPr/>
        </p:nvSpPr>
        <p:spPr>
          <a:xfrm>
            <a:off x="6477120" y="2362320"/>
            <a:ext cx="914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9" action="ppaction://hlinksldjump"/>
          </p:cNvPr>
          <p:cNvSpPr/>
          <p:nvPr/>
        </p:nvSpPr>
        <p:spPr>
          <a:xfrm>
            <a:off x="533520" y="2971800"/>
            <a:ext cx="3657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10" action="ppaction://hlinksldjump"/>
          </p:cNvPr>
          <p:cNvSpPr/>
          <p:nvPr/>
        </p:nvSpPr>
        <p:spPr>
          <a:xfrm>
            <a:off x="2743200" y="3886200"/>
            <a:ext cx="2133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11" action="ppaction://hlinksldjump"/>
          </p:cNvPr>
          <p:cNvSpPr/>
          <p:nvPr/>
        </p:nvSpPr>
        <p:spPr>
          <a:xfrm>
            <a:off x="533520" y="3962520"/>
            <a:ext cx="19047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6200000">
            <a:off x="-2691360" y="3607920"/>
            <a:ext cx="59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Grundlagen     Strategische Allianzen      Joint Ventures       F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Konzern       rechtliche Fragen      wirtschaftliche Bedeu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12" action="ppaction://hlinksldjump"/>
          </p:cNvPr>
          <p:cNvSpPr/>
          <p:nvPr/>
        </p:nvSpPr>
        <p:spPr>
          <a:xfrm>
            <a:off x="1447920" y="4952880"/>
            <a:ext cx="4038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13" action="ppaction://hlinksldjump"/>
          </p:cNvPr>
          <p:cNvSpPr/>
          <p:nvPr/>
        </p:nvSpPr>
        <p:spPr>
          <a:xfrm>
            <a:off x="838080" y="5791320"/>
            <a:ext cx="5943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14" action="ppaction://hlinksldjump"/>
          </p:cNvPr>
          <p:cNvSpPr/>
          <p:nvPr/>
        </p:nvSpPr>
        <p:spPr>
          <a:xfrm>
            <a:off x="41400" y="5584680"/>
            <a:ext cx="2221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15" action="ppaction://hlinksldjump"/>
          </p:cNvPr>
          <p:cNvSpPr/>
          <p:nvPr/>
        </p:nvSpPr>
        <p:spPr>
          <a:xfrm>
            <a:off x="39600" y="3352680"/>
            <a:ext cx="223920" cy="21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16" action="ppaction://hlinksldjump"/>
          </p:cNvPr>
          <p:cNvSpPr/>
          <p:nvPr/>
        </p:nvSpPr>
        <p:spPr>
          <a:xfrm>
            <a:off x="44280" y="1770120"/>
            <a:ext cx="211320" cy="14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rId17" action="ppaction://hlinksldjump"/>
          </p:cNvPr>
          <p:cNvSpPr/>
          <p:nvPr/>
        </p:nvSpPr>
        <p:spPr>
          <a:xfrm>
            <a:off x="34920" y="914400"/>
            <a:ext cx="216000" cy="76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18" action="ppaction://hlinksldjump"/>
          </p:cNvPr>
          <p:cNvSpPr/>
          <p:nvPr/>
        </p:nvSpPr>
        <p:spPr>
          <a:xfrm>
            <a:off x="295200" y="5651640"/>
            <a:ext cx="203400" cy="81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19" action="ppaction://hlinksldjump"/>
          </p:cNvPr>
          <p:cNvSpPr/>
          <p:nvPr/>
        </p:nvSpPr>
        <p:spPr>
          <a:xfrm>
            <a:off x="295200" y="3763800"/>
            <a:ext cx="201600" cy="17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20" action="ppaction://hlinksldjump"/>
          </p:cNvPr>
          <p:cNvSpPr/>
          <p:nvPr/>
        </p:nvSpPr>
        <p:spPr>
          <a:xfrm>
            <a:off x="284040" y="1150920"/>
            <a:ext cx="211320" cy="253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086600" y="5029200"/>
            <a:ext cx="1600200" cy="990720"/>
          </a:xfrm>
          <a:prstGeom prst="ellipse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Ende der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rä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21" action="ppaction://hlinksldjump"/>
          </p:cNvPr>
          <p:cNvSpPr/>
          <p:nvPr/>
        </p:nvSpPr>
        <p:spPr>
          <a:xfrm>
            <a:off x="6934320" y="5029200"/>
            <a:ext cx="1752480" cy="99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43600" y="18288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2133720"/>
            <a:ext cx="285912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25146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772400" y="2514600"/>
            <a:ext cx="990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629400" y="2514600"/>
            <a:ext cx="914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4640" y="762120"/>
            <a:ext cx="232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Übersic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1018440" y="762120"/>
            <a:ext cx="144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c3300"/>
                </a:solidFill>
                <a:latin typeface="Arial Rounded MT Bold"/>
              </a:rPr>
              <a:t>F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971800" y="1295280"/>
            <a:ext cx="5943600" cy="70380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Durch Verschmelzung von mindestens zwei Unternehmen entsteht ein Großunterneh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971800" y="3429000"/>
            <a:ext cx="5943600" cy="106956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Fusion durch Neubild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Die zusammengeschlossenen Unternehmen bilden eine neue Gesellsch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656400" y="9954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971800" y="2133720"/>
            <a:ext cx="5943600" cy="106956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Fusion durch Aufnahm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Vermögen eines Unternehmens geht im Vermögen eines anderen Unternehmens au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705720" y="152280"/>
            <a:ext cx="2189160" cy="39888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Comic Sans MS"/>
              </a:rPr>
              <a:t>F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>
            <a:hlinkClick r:id="rId1" action="ppaction://hlinksldjump"/>
          </p:cNvPr>
          <p:cNvSpPr/>
          <p:nvPr/>
        </p:nvSpPr>
        <p:spPr>
          <a:xfrm>
            <a:off x="7924680" y="52578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4498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12653" y="3794"/>
                </a:lnTo>
                <a:lnTo>
                  <a:pt x="12653" y="17806"/>
                </a:lnTo>
                <a:lnTo>
                  <a:pt x="10991" y="17806"/>
                </a:lnTo>
                <a:close/>
              </a:path>
            </a:pathLst>
          </a:cu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851600" y="574524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um Anfa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rot="16200000">
            <a:off x="-2691360" y="3607920"/>
            <a:ext cx="59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Grundlagen     Strategische Allianzen      Joint Ventures       F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Konzern       rechtliche Fragen      wirtschaftliche Bedeu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>
            <a:hlinkClick r:id="rId2" action="ppaction://hlinksldjump"/>
          </p:cNvPr>
          <p:cNvSpPr/>
          <p:nvPr/>
        </p:nvSpPr>
        <p:spPr>
          <a:xfrm>
            <a:off x="41400" y="5584680"/>
            <a:ext cx="2221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>
            <a:hlinkClick r:id="rId3" action="ppaction://hlinksldjump"/>
          </p:cNvPr>
          <p:cNvSpPr/>
          <p:nvPr/>
        </p:nvSpPr>
        <p:spPr>
          <a:xfrm>
            <a:off x="39600" y="3352680"/>
            <a:ext cx="223920" cy="21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>
            <a:hlinkClick r:id="rId4" action="ppaction://hlinksldjump"/>
          </p:cNvPr>
          <p:cNvSpPr/>
          <p:nvPr/>
        </p:nvSpPr>
        <p:spPr>
          <a:xfrm>
            <a:off x="44280" y="1770120"/>
            <a:ext cx="211320" cy="14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>
            <a:hlinkClick r:id="rId5" action="ppaction://hlinksldjump"/>
          </p:cNvPr>
          <p:cNvSpPr/>
          <p:nvPr/>
        </p:nvSpPr>
        <p:spPr>
          <a:xfrm>
            <a:off x="34920" y="914400"/>
            <a:ext cx="216000" cy="76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>
            <a:hlinkClick r:id="rId6" action="ppaction://hlinksldjump"/>
          </p:cNvPr>
          <p:cNvSpPr/>
          <p:nvPr/>
        </p:nvSpPr>
        <p:spPr>
          <a:xfrm>
            <a:off x="295200" y="5651640"/>
            <a:ext cx="203400" cy="81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>
            <a:hlinkClick r:id="rId7" action="ppaction://hlinksldjump"/>
          </p:cNvPr>
          <p:cNvSpPr/>
          <p:nvPr/>
        </p:nvSpPr>
        <p:spPr>
          <a:xfrm>
            <a:off x="295200" y="3763800"/>
            <a:ext cx="201600" cy="17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>
            <a:hlinkClick r:id="rId8" action="ppaction://hlinksldjump"/>
          </p:cNvPr>
          <p:cNvSpPr/>
          <p:nvPr/>
        </p:nvSpPr>
        <p:spPr>
          <a:xfrm>
            <a:off x="284040" y="1150920"/>
            <a:ext cx="211320" cy="253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rot="16200000">
            <a:off x="-298440" y="2739240"/>
            <a:ext cx="373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Arial"/>
              </a:rPr>
              <a:t>Grundlag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1099080" y="685800"/>
            <a:ext cx="358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c3300"/>
                </a:solidFill>
                <a:latin typeface="Arial Rounded MT Bold"/>
              </a:rPr>
              <a:t>Rechtliche Fra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914400" y="1295280"/>
            <a:ext cx="7315200" cy="82548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europäische Binnenmarkt beruht auf den Grundsätzen der Marktwirtsch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914400" y="5105520"/>
            <a:ext cx="5943600" cy="119124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usschaltung des Wettbewer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Monopolistische Preisgestal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Stagnation in der Betriebstechn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914400" y="2743200"/>
            <a:ext cx="7315200" cy="82548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Schutz des Wettbewerbes vor Verfälschung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durch entsprechende Geset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248520" y="152280"/>
            <a:ext cx="2646360" cy="39888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Comic Sans MS"/>
              </a:rPr>
              <a:t>Rechtliche Fr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rot="5414400">
            <a:off x="6781320" y="1752480"/>
            <a:ext cx="1295280" cy="114300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066680" y="4038480"/>
            <a:ext cx="579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Kritik an </a:t>
            </a:r>
            <a:r>
              <a:rPr b="0" lang="de-AT" sz="2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Kooperations- und Globalisierungsstrategi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>
            <a:hlinkClick r:id="" action="ppaction://hlinkshowjump?jump=nextslide"/>
          </p:cNvPr>
          <p:cNvSpPr/>
          <p:nvPr/>
        </p:nvSpPr>
        <p:spPr>
          <a:xfrm>
            <a:off x="8305920" y="54864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086240" y="556272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Nächste Fol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rot="16200000">
            <a:off x="-2691360" y="3607920"/>
            <a:ext cx="59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Grundlagen     Strategische Allianzen      Joint Ventures       F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Konzern       rechtliche Fragen      wirtschaftliche Bedeu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>
            <a:hlinkClick r:id="rId1" action="ppaction://hlinksldjump"/>
          </p:cNvPr>
          <p:cNvSpPr/>
          <p:nvPr/>
        </p:nvSpPr>
        <p:spPr>
          <a:xfrm>
            <a:off x="41400" y="5584680"/>
            <a:ext cx="2221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>
            <a:hlinkClick r:id="rId2" action="ppaction://hlinksldjump"/>
          </p:cNvPr>
          <p:cNvSpPr/>
          <p:nvPr/>
        </p:nvSpPr>
        <p:spPr>
          <a:xfrm>
            <a:off x="39600" y="3352680"/>
            <a:ext cx="223920" cy="21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>
            <a:hlinkClick r:id="rId3" action="ppaction://hlinksldjump"/>
          </p:cNvPr>
          <p:cNvSpPr/>
          <p:nvPr/>
        </p:nvSpPr>
        <p:spPr>
          <a:xfrm>
            <a:off x="44280" y="1770120"/>
            <a:ext cx="211320" cy="14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>
            <a:hlinkClick r:id="rId4" action="ppaction://hlinksldjump"/>
          </p:cNvPr>
          <p:cNvSpPr/>
          <p:nvPr/>
        </p:nvSpPr>
        <p:spPr>
          <a:xfrm>
            <a:off x="34920" y="914400"/>
            <a:ext cx="216000" cy="76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>
            <a:hlinkClick r:id="rId5" action="ppaction://hlinksldjump"/>
          </p:cNvPr>
          <p:cNvSpPr/>
          <p:nvPr/>
        </p:nvSpPr>
        <p:spPr>
          <a:xfrm>
            <a:off x="295200" y="5651640"/>
            <a:ext cx="203400" cy="81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>
            <a:hlinkClick r:id="rId6" action="ppaction://hlinksldjump"/>
          </p:cNvPr>
          <p:cNvSpPr/>
          <p:nvPr/>
        </p:nvSpPr>
        <p:spPr>
          <a:xfrm>
            <a:off x="295200" y="3763800"/>
            <a:ext cx="201600" cy="17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>
            <a:hlinkClick r:id="rId7" action="ppaction://hlinksldjump"/>
          </p:cNvPr>
          <p:cNvSpPr/>
          <p:nvPr/>
        </p:nvSpPr>
        <p:spPr>
          <a:xfrm>
            <a:off x="284040" y="1150920"/>
            <a:ext cx="211320" cy="253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870480" y="762120"/>
            <a:ext cx="358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c3300"/>
                </a:solidFill>
                <a:latin typeface="Arial Rounded MT Bold"/>
              </a:rPr>
              <a:t>Rechtliche Fra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5480" y="1228680"/>
            <a:ext cx="8229600" cy="204444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EU: </a:t>
            </a:r>
            <a:r>
              <a:rPr b="0" lang="de-A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G-Kartellrec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rt.81 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bs 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le unternehmerischen Verhaltensweisen, die eine Verhinderung, Einschränkung oder Verfälschung des Wettbewerbs bezwecken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656400" y="9954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84080" y="3416400"/>
            <a:ext cx="8229600" cy="262368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Österreich: </a:t>
            </a:r>
            <a:r>
              <a:rPr b="0" lang="de-A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Kartellgesetz 1988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in der Fassung der Kartellgesetz-Novelle 199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ruh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uf den Richtlinien der E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bschnitte über Kartelle,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rtikale Vertriebsbindungen,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rktbeherrschende Unternehmen und Zusammenschlü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  <a:ea typeface="Arial"/>
              </a:rPr>
              <a:t>Kartellgerich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  <a:ea typeface="Arial"/>
              </a:rPr>
              <a:t> Oberlandesgericht Wien für das gesamte Bundesgebiet</a:t>
            </a:r>
            <a:r>
              <a:rPr b="0" lang="de-AT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248520" y="152280"/>
            <a:ext cx="2646360" cy="39888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Comic Sans MS"/>
              </a:rPr>
              <a:t>Rechtliche Fr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>
            <a:hlinkClick r:id="" action="ppaction://hlinkshowjump?jump=nextslide"/>
          </p:cNvPr>
          <p:cNvSpPr/>
          <p:nvPr/>
        </p:nvSpPr>
        <p:spPr>
          <a:xfrm>
            <a:off x="6248520" y="60958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028840" y="617220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Nächste Fol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rot="16200000">
            <a:off x="-2691360" y="3607920"/>
            <a:ext cx="59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Grundlagen     Strategische Allianzen      Joint Ventures       F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Konzern       rechtliche Fragen      wirtschaftliche Bedeu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>
            <a:hlinkClick r:id="rId1" action="ppaction://hlinksldjump"/>
          </p:cNvPr>
          <p:cNvSpPr/>
          <p:nvPr/>
        </p:nvSpPr>
        <p:spPr>
          <a:xfrm>
            <a:off x="41400" y="5584680"/>
            <a:ext cx="2221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>
            <a:hlinkClick r:id="rId2" action="ppaction://hlinksldjump"/>
          </p:cNvPr>
          <p:cNvSpPr/>
          <p:nvPr/>
        </p:nvSpPr>
        <p:spPr>
          <a:xfrm>
            <a:off x="39600" y="3352680"/>
            <a:ext cx="223920" cy="21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>
            <a:hlinkClick r:id="rId3" action="ppaction://hlinksldjump"/>
          </p:cNvPr>
          <p:cNvSpPr/>
          <p:nvPr/>
        </p:nvSpPr>
        <p:spPr>
          <a:xfrm>
            <a:off x="44280" y="1770120"/>
            <a:ext cx="211320" cy="14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>
            <a:hlinkClick r:id="rId4" action="ppaction://hlinksldjump"/>
          </p:cNvPr>
          <p:cNvSpPr/>
          <p:nvPr/>
        </p:nvSpPr>
        <p:spPr>
          <a:xfrm>
            <a:off x="34920" y="914400"/>
            <a:ext cx="216000" cy="76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>
            <a:hlinkClick r:id="rId5" action="ppaction://hlinksldjump"/>
          </p:cNvPr>
          <p:cNvSpPr/>
          <p:nvPr/>
        </p:nvSpPr>
        <p:spPr>
          <a:xfrm>
            <a:off x="295200" y="5651640"/>
            <a:ext cx="203400" cy="81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>
            <a:hlinkClick r:id="rId6" action="ppaction://hlinksldjump"/>
          </p:cNvPr>
          <p:cNvSpPr/>
          <p:nvPr/>
        </p:nvSpPr>
        <p:spPr>
          <a:xfrm>
            <a:off x="295200" y="3763800"/>
            <a:ext cx="201600" cy="17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>
            <a:hlinkClick r:id="rId7" action="ppaction://hlinksldjump"/>
          </p:cNvPr>
          <p:cNvSpPr/>
          <p:nvPr/>
        </p:nvSpPr>
        <p:spPr>
          <a:xfrm>
            <a:off x="284040" y="1150920"/>
            <a:ext cx="211320" cy="253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946440" y="838080"/>
            <a:ext cx="358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c3300"/>
                </a:solidFill>
                <a:latin typeface="Arial Rounded MT Bold"/>
              </a:rPr>
              <a:t>Rechtliche Fra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62120" y="1981080"/>
            <a:ext cx="4038480" cy="283824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Bei horizontalen Vereinbar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Kalkulationsverfahrenskartelle, Rabattkartell, Konditionenkartell, Kooperationskartell, Exportkartelle, Einkaufskartell, Spezialisierungskartelle, Normungskartell, Typsierungskart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656400" y="9954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248520" y="152280"/>
            <a:ext cx="2646360" cy="39888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Comic Sans MS"/>
              </a:rPr>
              <a:t>Rechtliche Fr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445120" y="1442880"/>
            <a:ext cx="480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meldungspflichtige Kartellar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876920" y="1981080"/>
            <a:ext cx="4038480" cy="283824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Bei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vertikalen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Vereinbar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bsprachen über die Festsetzung von Wiederverkaufspreisen, Gebietsschutzabsprac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438280" y="50292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reistellung vom Kartellverbo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914400" y="5410080"/>
            <a:ext cx="800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  <a:ea typeface="Arial"/>
              </a:rPr>
              <a:t>Maßnahmen der Warenerzeugung oder –verteil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  <a:ea typeface="Arial"/>
              </a:rPr>
              <a:t>Förderung des technischen oder wirtschaftlichen Fortschrit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>
            <a:hlinkClick r:id="rId1" action="ppaction://hlinksldjump"/>
          </p:cNvPr>
          <p:cNvSpPr/>
          <p:nvPr/>
        </p:nvSpPr>
        <p:spPr>
          <a:xfrm>
            <a:off x="7924680" y="52578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4498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12653" y="3794"/>
                </a:lnTo>
                <a:lnTo>
                  <a:pt x="12653" y="17806"/>
                </a:lnTo>
                <a:lnTo>
                  <a:pt x="10991" y="17806"/>
                </a:lnTo>
                <a:close/>
              </a:path>
            </a:pathLst>
          </a:cu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851600" y="574524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um Anfa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rot="16200000">
            <a:off x="-2691360" y="3607920"/>
            <a:ext cx="59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Grundlagen     Strategische Allianzen      Joint Ventures       F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Konzern       rechtliche Fragen      wirtschaftliche Bedeu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>
            <a:hlinkClick r:id="rId2" action="ppaction://hlinksldjump"/>
          </p:cNvPr>
          <p:cNvSpPr/>
          <p:nvPr/>
        </p:nvSpPr>
        <p:spPr>
          <a:xfrm>
            <a:off x="41400" y="5584680"/>
            <a:ext cx="2221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>
            <a:hlinkClick r:id="rId3" action="ppaction://hlinksldjump"/>
          </p:cNvPr>
          <p:cNvSpPr/>
          <p:nvPr/>
        </p:nvSpPr>
        <p:spPr>
          <a:xfrm>
            <a:off x="39600" y="3352680"/>
            <a:ext cx="223920" cy="21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>
            <a:hlinkClick r:id="rId4" action="ppaction://hlinksldjump"/>
          </p:cNvPr>
          <p:cNvSpPr/>
          <p:nvPr/>
        </p:nvSpPr>
        <p:spPr>
          <a:xfrm>
            <a:off x="44280" y="1770120"/>
            <a:ext cx="211320" cy="14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>
            <a:hlinkClick r:id="rId5" action="ppaction://hlinksldjump"/>
          </p:cNvPr>
          <p:cNvSpPr/>
          <p:nvPr/>
        </p:nvSpPr>
        <p:spPr>
          <a:xfrm>
            <a:off x="34920" y="914400"/>
            <a:ext cx="216000" cy="76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>
            <a:hlinkClick r:id="rId6" action="ppaction://hlinksldjump"/>
          </p:cNvPr>
          <p:cNvSpPr/>
          <p:nvPr/>
        </p:nvSpPr>
        <p:spPr>
          <a:xfrm>
            <a:off x="295200" y="5651640"/>
            <a:ext cx="203400" cy="81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>
            <a:hlinkClick r:id="rId7" action="ppaction://hlinksldjump"/>
          </p:cNvPr>
          <p:cNvSpPr/>
          <p:nvPr/>
        </p:nvSpPr>
        <p:spPr>
          <a:xfrm>
            <a:off x="295200" y="3763800"/>
            <a:ext cx="201600" cy="17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>
            <a:hlinkClick r:id="rId8" action="ppaction://hlinksldjump"/>
          </p:cNvPr>
          <p:cNvSpPr/>
          <p:nvPr/>
        </p:nvSpPr>
        <p:spPr>
          <a:xfrm>
            <a:off x="284040" y="1150920"/>
            <a:ext cx="211320" cy="253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 rot="19800000">
            <a:off x="638280" y="2900520"/>
            <a:ext cx="8239320" cy="155484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dffefe"/>
              </a:gs>
            </a:gsLst>
            <a:lin ang="5400000"/>
          </a:gra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Arial"/>
              </a:rPr>
              <a:t>Vorteile der Kooperations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Arial"/>
              </a:rPr>
              <a:t>und Globalisierungsstrategi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924120" y="4038480"/>
            <a:ext cx="2628360" cy="520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rößenvorteil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846720" y="2057400"/>
            <a:ext cx="6689520" cy="5205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rzielung von externen Synergieeffekte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71480" y="2666880"/>
            <a:ext cx="8052120" cy="520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ärkung der Markt- bzw. Wettbewerbspositione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887640" y="4343400"/>
            <a:ext cx="2536920" cy="5205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Kostenvortei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992160" y="3352680"/>
            <a:ext cx="7902720" cy="5205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Konzentration auf spezielle Wettbewerbsstärk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19280" y="914400"/>
            <a:ext cx="5438520" cy="85572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cc"/>
                </a:solidFill>
                <a:latin typeface="Comic Sans MS"/>
              </a:rPr>
              <a:t>Wirtschaftliche</a:t>
            </a: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3200" spc="-1" strike="noStrike">
                <a:solidFill>
                  <a:srgbClr val="3333cc"/>
                </a:solidFill>
                <a:latin typeface="Comic Sans MS"/>
              </a:rPr>
              <a:t>Bedeut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Comic Sans MS"/>
              </a:rPr>
              <a:t>der Kooperations- und Globalisierungsstrategi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848160" y="5181480"/>
            <a:ext cx="6035760" cy="520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isikoteilung und Risikobegrenzu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>
            <a:hlinkClick r:id="" action="ppaction://hlinkshowjump?jump=nextslide"/>
          </p:cNvPr>
          <p:cNvSpPr/>
          <p:nvPr/>
        </p:nvSpPr>
        <p:spPr>
          <a:xfrm>
            <a:off x="6248520" y="60958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028840" y="617220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Nächste Fol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rot="16200000">
            <a:off x="-2691360" y="3607920"/>
            <a:ext cx="59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Grundlagen     Strategische Allianzen      Joint Ventures       F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Konzern       rechtliche Fragen      wirtschaftliche Bedeu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>
            <a:hlinkClick r:id="rId1" action="ppaction://hlinksldjump"/>
          </p:cNvPr>
          <p:cNvSpPr/>
          <p:nvPr/>
        </p:nvSpPr>
        <p:spPr>
          <a:xfrm>
            <a:off x="41400" y="5584680"/>
            <a:ext cx="2221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>
            <a:hlinkClick r:id="rId2" action="ppaction://hlinksldjump"/>
          </p:cNvPr>
          <p:cNvSpPr/>
          <p:nvPr/>
        </p:nvSpPr>
        <p:spPr>
          <a:xfrm>
            <a:off x="39600" y="3352680"/>
            <a:ext cx="223920" cy="21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>
            <a:hlinkClick r:id="rId3" action="ppaction://hlinksldjump"/>
          </p:cNvPr>
          <p:cNvSpPr/>
          <p:nvPr/>
        </p:nvSpPr>
        <p:spPr>
          <a:xfrm>
            <a:off x="44280" y="1770120"/>
            <a:ext cx="211320" cy="14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>
            <a:hlinkClick r:id="rId4" action="ppaction://hlinksldjump"/>
          </p:cNvPr>
          <p:cNvSpPr/>
          <p:nvPr/>
        </p:nvSpPr>
        <p:spPr>
          <a:xfrm>
            <a:off x="34920" y="914400"/>
            <a:ext cx="216000" cy="76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>
            <a:hlinkClick r:id="rId5" action="ppaction://hlinksldjump"/>
          </p:cNvPr>
          <p:cNvSpPr/>
          <p:nvPr/>
        </p:nvSpPr>
        <p:spPr>
          <a:xfrm>
            <a:off x="295200" y="5651640"/>
            <a:ext cx="203400" cy="81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>
            <a:hlinkClick r:id="rId6" action="ppaction://hlinksldjump"/>
          </p:cNvPr>
          <p:cNvSpPr/>
          <p:nvPr/>
        </p:nvSpPr>
        <p:spPr>
          <a:xfrm>
            <a:off x="295200" y="3763800"/>
            <a:ext cx="201600" cy="17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>
            <a:hlinkClick r:id="rId7" action="ppaction://hlinksldjump"/>
          </p:cNvPr>
          <p:cNvSpPr/>
          <p:nvPr/>
        </p:nvSpPr>
        <p:spPr>
          <a:xfrm>
            <a:off x="284040" y="1150920"/>
            <a:ext cx="211320" cy="253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 rot="19800000">
            <a:off x="638280" y="2900520"/>
            <a:ext cx="8239320" cy="155484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dffefe"/>
              </a:gs>
            </a:gsLst>
            <a:lin ang="5400000"/>
          </a:gra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Arial"/>
              </a:rPr>
              <a:t>Nachteile der Kooperations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Arial"/>
              </a:rPr>
              <a:t>und Globalisierungsstrategi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925560" y="4038480"/>
            <a:ext cx="6072120" cy="520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Weitergabe des e</a:t>
            </a:r>
            <a:r>
              <a:rPr b="0" lang="de-A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gene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 </a:t>
            </a:r>
            <a:r>
              <a:rPr b="0" lang="de-A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Know-how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lang="de-AT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40160" y="1905120"/>
            <a:ext cx="8391960" cy="5205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inschränkung des eigenen Handlungsspielraume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64640" y="2658960"/>
            <a:ext cx="5942880" cy="520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itschleppung von „Trittbrettfahrern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499280" y="4648320"/>
            <a:ext cx="3803040" cy="5205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Koordination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aufwand</a:t>
            </a:r>
            <a:r>
              <a:rPr b="0" lang="de-AT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89760" y="3352680"/>
            <a:ext cx="6159240" cy="5205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Unzureichende Kontrollmöglichkeit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19280" y="914400"/>
            <a:ext cx="5438520" cy="85572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cc"/>
                </a:solidFill>
                <a:latin typeface="Comic Sans MS"/>
              </a:rPr>
              <a:t>Wirtschaftliche</a:t>
            </a: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3200" spc="-1" strike="noStrike">
                <a:solidFill>
                  <a:srgbClr val="3333cc"/>
                </a:solidFill>
                <a:latin typeface="Comic Sans MS"/>
              </a:rPr>
              <a:t>Bedeut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Comic Sans MS"/>
              </a:rPr>
              <a:t>der Kooperations- und Globalisierungsstrategi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916200" y="5334120"/>
            <a:ext cx="6516000" cy="520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Kosten: Partnersuche, Verhandlungen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>
            <a:hlinkClick r:id="rId1" action="ppaction://hlinksldjump"/>
          </p:cNvPr>
          <p:cNvSpPr/>
          <p:nvPr/>
        </p:nvSpPr>
        <p:spPr>
          <a:xfrm>
            <a:off x="7924680" y="52578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4498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12653" y="3794"/>
                </a:lnTo>
                <a:lnTo>
                  <a:pt x="12653" y="17806"/>
                </a:lnTo>
                <a:lnTo>
                  <a:pt x="10991" y="17806"/>
                </a:lnTo>
                <a:close/>
              </a:path>
            </a:pathLst>
          </a:cu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851600" y="574524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um Anfa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rot="16200000">
            <a:off x="-2691360" y="3607920"/>
            <a:ext cx="59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Grundlagen     Strategische Allianzen      Joint Ventures       F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Konzern       rechtliche Fragen      wirtschaftliche Bedeu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>
            <a:hlinkClick r:id="rId2" action="ppaction://hlinksldjump"/>
          </p:cNvPr>
          <p:cNvSpPr/>
          <p:nvPr/>
        </p:nvSpPr>
        <p:spPr>
          <a:xfrm>
            <a:off x="41400" y="5584680"/>
            <a:ext cx="2221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>
            <a:hlinkClick r:id="rId3" action="ppaction://hlinksldjump"/>
          </p:cNvPr>
          <p:cNvSpPr/>
          <p:nvPr/>
        </p:nvSpPr>
        <p:spPr>
          <a:xfrm>
            <a:off x="39600" y="3352680"/>
            <a:ext cx="223920" cy="21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>
            <a:hlinkClick r:id="rId4" action="ppaction://hlinksldjump"/>
          </p:cNvPr>
          <p:cNvSpPr/>
          <p:nvPr/>
        </p:nvSpPr>
        <p:spPr>
          <a:xfrm>
            <a:off x="44280" y="1770120"/>
            <a:ext cx="211320" cy="14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>
            <a:hlinkClick r:id="rId5" action="ppaction://hlinksldjump"/>
          </p:cNvPr>
          <p:cNvSpPr/>
          <p:nvPr/>
        </p:nvSpPr>
        <p:spPr>
          <a:xfrm>
            <a:off x="34920" y="914400"/>
            <a:ext cx="216000" cy="76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>
            <a:hlinkClick r:id="rId6" action="ppaction://hlinksldjump"/>
          </p:cNvPr>
          <p:cNvSpPr/>
          <p:nvPr/>
        </p:nvSpPr>
        <p:spPr>
          <a:xfrm>
            <a:off x="295200" y="5651640"/>
            <a:ext cx="203400" cy="81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>
            <a:hlinkClick r:id="rId7" action="ppaction://hlinksldjump"/>
          </p:cNvPr>
          <p:cNvSpPr/>
          <p:nvPr/>
        </p:nvSpPr>
        <p:spPr>
          <a:xfrm>
            <a:off x="295200" y="3763800"/>
            <a:ext cx="201600" cy="17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>
            <a:hlinkClick r:id="rId8" action="ppaction://hlinksldjump"/>
          </p:cNvPr>
          <p:cNvSpPr/>
          <p:nvPr/>
        </p:nvSpPr>
        <p:spPr>
          <a:xfrm>
            <a:off x="284040" y="1150920"/>
            <a:ext cx="211320" cy="253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1899360" y="2666880"/>
            <a:ext cx="5458320" cy="10688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Gehen Sie die Präsentation gan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einfach der Reihe nach du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829440" y="914400"/>
            <a:ext cx="7143840" cy="1557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Verwenden Sie die Hyperlin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zu den einzelnen Begriff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(in der Folie oder in der Übersicht am linken Folienra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914400" y="4038480"/>
            <a:ext cx="6099120" cy="1557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Drucken Sie Foli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(farbig oder schwarz-weiß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Für den OH-Projektor a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rot="16200000">
            <a:off x="-2691360" y="3607920"/>
            <a:ext cx="59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Grundlagen     Strategische Allianzen      Joint Ventures       F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Konzern       rechtliche Fragen      wirtschaftliche Bedeu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>
            <a:hlinkClick r:id="rId1" action="ppaction://hlinksldjump"/>
          </p:cNvPr>
          <p:cNvSpPr/>
          <p:nvPr/>
        </p:nvSpPr>
        <p:spPr>
          <a:xfrm>
            <a:off x="41400" y="5584680"/>
            <a:ext cx="2221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>
            <a:hlinkClick r:id="rId2" action="ppaction://hlinksldjump"/>
          </p:cNvPr>
          <p:cNvSpPr/>
          <p:nvPr/>
        </p:nvSpPr>
        <p:spPr>
          <a:xfrm>
            <a:off x="39600" y="3352680"/>
            <a:ext cx="223920" cy="21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>
            <a:hlinkClick r:id="rId3" action="ppaction://hlinksldjump"/>
          </p:cNvPr>
          <p:cNvSpPr/>
          <p:nvPr/>
        </p:nvSpPr>
        <p:spPr>
          <a:xfrm>
            <a:off x="44280" y="1770120"/>
            <a:ext cx="211320" cy="14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>
            <a:hlinkClick r:id="rId4" action="ppaction://hlinksldjump"/>
          </p:cNvPr>
          <p:cNvSpPr/>
          <p:nvPr/>
        </p:nvSpPr>
        <p:spPr>
          <a:xfrm>
            <a:off x="34920" y="914400"/>
            <a:ext cx="216000" cy="76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>
            <a:hlinkClick r:id="rId5" action="ppaction://hlinksldjump"/>
          </p:cNvPr>
          <p:cNvSpPr/>
          <p:nvPr/>
        </p:nvSpPr>
        <p:spPr>
          <a:xfrm>
            <a:off x="295200" y="5651640"/>
            <a:ext cx="203400" cy="81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>
            <a:hlinkClick r:id="rId6" action="ppaction://hlinksldjump"/>
          </p:cNvPr>
          <p:cNvSpPr/>
          <p:nvPr/>
        </p:nvSpPr>
        <p:spPr>
          <a:xfrm>
            <a:off x="295200" y="3763800"/>
            <a:ext cx="201600" cy="17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>
            <a:hlinkClick r:id="rId7" action="ppaction://hlinksldjump"/>
          </p:cNvPr>
          <p:cNvSpPr/>
          <p:nvPr/>
        </p:nvSpPr>
        <p:spPr>
          <a:xfrm>
            <a:off x="284040" y="1150920"/>
            <a:ext cx="211320" cy="253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378560" y="5486400"/>
            <a:ext cx="153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Times New Roman"/>
              </a:rPr>
              <a:t>zum Anfang der</a:t>
            </a:r>
            <a:br>
              <a:rPr sz="1600"/>
            </a:br>
            <a:r>
              <a:rPr b="1" i="1" lang="de-DE" sz="1600" spc="-1" strike="noStrike">
                <a:solidFill>
                  <a:srgbClr val="000000"/>
                </a:solidFill>
                <a:latin typeface="Times New Roman"/>
              </a:rPr>
              <a:t>Prä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391520" y="4572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6" h="21600">
                <a:moveTo>
                  <a:pt x="9191" y="3794"/>
                </a:moveTo>
                <a:lnTo>
                  <a:pt x="23204" y="10800"/>
                </a:lnTo>
                <a:lnTo>
                  <a:pt x="9191" y="17806"/>
                </a:lnTo>
                <a:close/>
              </a:path>
            </a:pathLst>
          </a:cu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 rot="16200000">
            <a:off x="-2691360" y="3607920"/>
            <a:ext cx="59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Grundlagen     Strategische Allianzen      Joint Ventures       F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Konzern       rechtliche Fragen      wirtschaftliche Bedeu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>
            <a:hlinkClick r:id="rId1" action="ppaction://hlinksldjump"/>
          </p:cNvPr>
          <p:cNvSpPr/>
          <p:nvPr/>
        </p:nvSpPr>
        <p:spPr>
          <a:xfrm>
            <a:off x="41400" y="5584680"/>
            <a:ext cx="2221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>
            <a:hlinkClick r:id="rId2" action="ppaction://hlinksldjump"/>
          </p:cNvPr>
          <p:cNvSpPr/>
          <p:nvPr/>
        </p:nvSpPr>
        <p:spPr>
          <a:xfrm>
            <a:off x="39600" y="3352680"/>
            <a:ext cx="223920" cy="21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>
            <a:hlinkClick r:id="rId3" action="ppaction://hlinksldjump"/>
          </p:cNvPr>
          <p:cNvSpPr/>
          <p:nvPr/>
        </p:nvSpPr>
        <p:spPr>
          <a:xfrm>
            <a:off x="44280" y="1770120"/>
            <a:ext cx="211320" cy="14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>
            <a:hlinkClick r:id="rId4" action="ppaction://hlinksldjump"/>
          </p:cNvPr>
          <p:cNvSpPr/>
          <p:nvPr/>
        </p:nvSpPr>
        <p:spPr>
          <a:xfrm>
            <a:off x="34920" y="914400"/>
            <a:ext cx="216000" cy="76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>
            <a:hlinkClick r:id="rId5" action="ppaction://hlinksldjump"/>
          </p:cNvPr>
          <p:cNvSpPr/>
          <p:nvPr/>
        </p:nvSpPr>
        <p:spPr>
          <a:xfrm>
            <a:off x="295200" y="5651640"/>
            <a:ext cx="203400" cy="81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>
            <a:hlinkClick r:id="rId6" action="ppaction://hlinksldjump"/>
          </p:cNvPr>
          <p:cNvSpPr/>
          <p:nvPr/>
        </p:nvSpPr>
        <p:spPr>
          <a:xfrm>
            <a:off x="295200" y="3763800"/>
            <a:ext cx="201600" cy="17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>
            <a:hlinkClick r:id="rId7" action="ppaction://hlinksldjump"/>
          </p:cNvPr>
          <p:cNvSpPr/>
          <p:nvPr/>
        </p:nvSpPr>
        <p:spPr>
          <a:xfrm>
            <a:off x="284040" y="1150920"/>
            <a:ext cx="211320" cy="253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8"/>
          <a:stretch/>
        </p:blipFill>
        <p:spPr>
          <a:xfrm>
            <a:off x="762120" y="1066680"/>
            <a:ext cx="8153280" cy="266724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/>
          <p:nvPr/>
        </p:nvSpPr>
        <p:spPr>
          <a:xfrm>
            <a:off x="1914480" y="2863800"/>
            <a:ext cx="5933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9933"/>
                </a:solidFill>
                <a:latin typeface="Arial"/>
              </a:rPr>
              <a:t>Ihr Partner in Sach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9933"/>
                </a:solidFill>
                <a:latin typeface="Arial"/>
              </a:rPr>
              <a:t>Schulbu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600200" y="1219320"/>
            <a:ext cx="380880" cy="304560"/>
          </a:xfrm>
          <a:prstGeom prst="rect">
            <a:avLst/>
          </a:pr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 rot="19945800">
            <a:off x="858960" y="2518920"/>
            <a:ext cx="7926840" cy="246852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dffefe"/>
              </a:gs>
            </a:gsLst>
            <a:lin ang="5400000"/>
          </a:gra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5200" spc="-1" strike="noStrike">
                <a:solidFill>
                  <a:srgbClr val="000000"/>
                </a:solidFill>
                <a:latin typeface="Arial"/>
              </a:rPr>
              <a:t>Gründe für die Entstehung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5200" spc="-1" strike="noStrike">
                <a:solidFill>
                  <a:srgbClr val="000000"/>
                </a:solidFill>
                <a:latin typeface="Arial"/>
              </a:rPr>
              <a:t>Von Kooperations- und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5200" spc="-1" strike="noStrike">
                <a:solidFill>
                  <a:srgbClr val="000000"/>
                </a:solidFill>
                <a:latin typeface="Arial"/>
              </a:rPr>
              <a:t>Globalisierungsaktivitäten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2360" y="5410080"/>
            <a:ext cx="5673240" cy="581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Ausnutzung</a:t>
            </a:r>
            <a:r>
              <a:rPr b="0" lang="de-DE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des</a:t>
            </a:r>
            <a:r>
              <a:rPr b="0" lang="de-DE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Größenvorte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21520" y="914400"/>
            <a:ext cx="4545360" cy="5205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Globalisierung der Märk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545800" y="1143000"/>
            <a:ext cx="3359880" cy="581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Globale</a:t>
            </a:r>
            <a:r>
              <a:rPr b="0" lang="de-DE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Reichwe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42560" y="1752480"/>
            <a:ext cx="3955680" cy="5205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Wettbewerbszunah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2362320"/>
            <a:ext cx="2768400" cy="520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Kostensenk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1040" y="2955960"/>
            <a:ext cx="5978160" cy="9471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Verkürzung von Entwicklungs- 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Produktionszyk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35600" y="3962520"/>
            <a:ext cx="6391080" cy="581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Technologie</a:t>
            </a:r>
            <a:r>
              <a:rPr b="0" lang="de-DE" sz="32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und</a:t>
            </a:r>
            <a:r>
              <a:rPr b="0" lang="de-DE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Ressourcenzuga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62120" y="2209680"/>
            <a:ext cx="3431520" cy="581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Steuerliche</a:t>
            </a:r>
            <a:r>
              <a:rPr b="0" lang="de-DE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Vorte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97760" y="6095880"/>
            <a:ext cx="5965560" cy="5814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Aufbringung</a:t>
            </a:r>
            <a:r>
              <a:rPr b="0" lang="de-DE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hoher</a:t>
            </a:r>
            <a:r>
              <a:rPr b="0" lang="de-DE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Kapitalbeträ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53920" y="4648320"/>
            <a:ext cx="6563160" cy="5814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Änderungen</a:t>
            </a:r>
            <a:r>
              <a:rPr b="0" lang="de-DE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im</a:t>
            </a:r>
            <a:r>
              <a:rPr b="0" lang="de-DE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Verbraucherverhal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337880" y="152280"/>
            <a:ext cx="1608840" cy="39888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Comic Sans MS"/>
              </a:rPr>
              <a:t>Grundl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7924680" y="52578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4498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12653" y="3794"/>
                </a:lnTo>
                <a:lnTo>
                  <a:pt x="12653" y="17806"/>
                </a:lnTo>
                <a:lnTo>
                  <a:pt x="10991" y="17806"/>
                </a:lnTo>
                <a:close/>
              </a:path>
            </a:pathLst>
          </a:cu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851600" y="574524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um Anfa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-2691360" y="3607920"/>
            <a:ext cx="59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Grundlagen     Strategische Allianzen      Joint Ventures       F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Konzern       rechtliche Fragen      wirtschaftliche Bedeu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2" action="ppaction://hlinksldjump"/>
          </p:cNvPr>
          <p:cNvSpPr/>
          <p:nvPr/>
        </p:nvSpPr>
        <p:spPr>
          <a:xfrm>
            <a:off x="41400" y="5584680"/>
            <a:ext cx="2221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3" action="ppaction://hlinksldjump"/>
          </p:cNvPr>
          <p:cNvSpPr/>
          <p:nvPr/>
        </p:nvSpPr>
        <p:spPr>
          <a:xfrm>
            <a:off x="39600" y="3352680"/>
            <a:ext cx="223920" cy="21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4" action="ppaction://hlinksldjump"/>
          </p:cNvPr>
          <p:cNvSpPr/>
          <p:nvPr/>
        </p:nvSpPr>
        <p:spPr>
          <a:xfrm>
            <a:off x="44280" y="1770120"/>
            <a:ext cx="211320" cy="14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rId5" action="ppaction://hlinksldjump"/>
          </p:cNvPr>
          <p:cNvSpPr/>
          <p:nvPr/>
        </p:nvSpPr>
        <p:spPr>
          <a:xfrm>
            <a:off x="34920" y="914400"/>
            <a:ext cx="216000" cy="76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rId6" action="ppaction://hlinksldjump"/>
          </p:cNvPr>
          <p:cNvSpPr/>
          <p:nvPr/>
        </p:nvSpPr>
        <p:spPr>
          <a:xfrm>
            <a:off x="295200" y="5651640"/>
            <a:ext cx="203400" cy="81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rId7" action="ppaction://hlinksldjump"/>
          </p:cNvPr>
          <p:cNvSpPr/>
          <p:nvPr/>
        </p:nvSpPr>
        <p:spPr>
          <a:xfrm>
            <a:off x="295200" y="3763800"/>
            <a:ext cx="201600" cy="17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8" action="ppaction://hlinksldjump"/>
          </p:cNvPr>
          <p:cNvSpPr/>
          <p:nvPr/>
        </p:nvSpPr>
        <p:spPr>
          <a:xfrm>
            <a:off x="284040" y="1150920"/>
            <a:ext cx="211320" cy="253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423680" y="4952880"/>
            <a:ext cx="4515120" cy="9471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Geografische Ausricht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der Allian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7920" y="3429000"/>
            <a:ext cx="3416040" cy="1373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Inhalt der Allian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Bereiche 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Zusammenarb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1" action="ppaction://hlinksldjump"/>
          </p:cNvPr>
          <p:cNvSpPr/>
          <p:nvPr/>
        </p:nvSpPr>
        <p:spPr>
          <a:xfrm>
            <a:off x="685800" y="3429000"/>
            <a:ext cx="3352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1905120"/>
            <a:ext cx="861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Vereinbarungen zwischen zwei oder mehreren Unternehmen, auf ganz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bestimmten Gebieten mehr oder weniger e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zusammenzuarbeit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41640" y="5562720"/>
            <a:ext cx="3039840" cy="9471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Umfang 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Zusammenarb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889960" y="3048120"/>
            <a:ext cx="3039840" cy="9471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Richtungen 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Zusammenarb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80400" y="4267080"/>
            <a:ext cx="3461760" cy="5205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Dauer der Allian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743200"/>
            <a:ext cx="457200" cy="838080"/>
          </a:xfrm>
          <a:prstGeom prst="downArrow">
            <a:avLst>
              <a:gd name="adj1" fmla="val 50000"/>
              <a:gd name="adj2" fmla="val 4582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48320" y="3048120"/>
            <a:ext cx="457200" cy="2057400"/>
          </a:xfrm>
          <a:prstGeom prst="downArrow">
            <a:avLst>
              <a:gd name="adj1" fmla="val 50000"/>
              <a:gd name="adj2" fmla="val 1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57800" y="3048120"/>
            <a:ext cx="457200" cy="13716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381880" y="2590920"/>
            <a:ext cx="381240" cy="533160"/>
          </a:xfrm>
          <a:prstGeom prst="downArrow">
            <a:avLst>
              <a:gd name="adj1" fmla="val 50000"/>
              <a:gd name="adj2" fmla="val 34962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2362320"/>
            <a:ext cx="8381880" cy="622080"/>
          </a:xfrm>
          <a:custGeom>
            <a:avLst/>
            <a:gdLst/>
            <a:ahLst/>
            <a:rect l="l" t="t" r="r" b="b"/>
            <a:pathLst>
              <a:path w="5286" h="440">
                <a:moveTo>
                  <a:pt x="0" y="42"/>
                </a:moveTo>
                <a:cubicBezTo>
                  <a:pt x="169" y="88"/>
                  <a:pt x="593" y="248"/>
                  <a:pt x="1017" y="313"/>
                </a:cubicBezTo>
                <a:cubicBezTo>
                  <a:pt x="1437" y="385"/>
                  <a:pt x="2077" y="440"/>
                  <a:pt x="2544" y="432"/>
                </a:cubicBezTo>
                <a:cubicBezTo>
                  <a:pt x="3011" y="424"/>
                  <a:pt x="3369" y="408"/>
                  <a:pt x="3805" y="336"/>
                </a:cubicBezTo>
                <a:cubicBezTo>
                  <a:pt x="4161" y="285"/>
                  <a:pt x="4577" y="217"/>
                  <a:pt x="4803" y="161"/>
                </a:cubicBezTo>
                <a:cubicBezTo>
                  <a:pt x="5050" y="105"/>
                  <a:pt x="5185" y="34"/>
                  <a:pt x="5286" y="0"/>
                </a:cubicBezTo>
              </a:path>
            </a:pathLst>
          </a:custGeom>
          <a:noFill/>
          <a:ln w="7920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1219320" y="5562720"/>
            <a:ext cx="30477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rId3" action="ppaction://hlinksldjump"/>
          </p:cNvPr>
          <p:cNvSpPr/>
          <p:nvPr/>
        </p:nvSpPr>
        <p:spPr>
          <a:xfrm>
            <a:off x="4419720" y="4952880"/>
            <a:ext cx="44956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rId4" action="ppaction://hlinksldjump"/>
          </p:cNvPr>
          <p:cNvSpPr/>
          <p:nvPr/>
        </p:nvSpPr>
        <p:spPr>
          <a:xfrm>
            <a:off x="5105520" y="42670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5" action="ppaction://hlinksldjump"/>
          </p:cNvPr>
          <p:cNvSpPr/>
          <p:nvPr/>
        </p:nvSpPr>
        <p:spPr>
          <a:xfrm>
            <a:off x="5943600" y="3048120"/>
            <a:ext cx="29718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rId6" action="ppaction://hlinksldjump"/>
          </p:cNvPr>
          <p:cNvSpPr/>
          <p:nvPr/>
        </p:nvSpPr>
        <p:spPr>
          <a:xfrm>
            <a:off x="6068880" y="60390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4498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12653" y="3794"/>
                </a:lnTo>
                <a:lnTo>
                  <a:pt x="12653" y="17806"/>
                </a:lnTo>
                <a:lnTo>
                  <a:pt x="10991" y="17806"/>
                </a:lnTo>
                <a:close/>
              </a:path>
            </a:pathLst>
          </a:cu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995800" y="65260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um Anfa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16200000">
            <a:off x="-2691360" y="3607920"/>
            <a:ext cx="59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Grundlagen     Strategische Allianzen      Joint Ventures       F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Konzern       rechtliche Fragen      wirtschaftliche Bedeu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7" action="ppaction://hlinksldjump"/>
          </p:cNvPr>
          <p:cNvSpPr/>
          <p:nvPr/>
        </p:nvSpPr>
        <p:spPr>
          <a:xfrm>
            <a:off x="41400" y="5584680"/>
            <a:ext cx="2221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rId8" action="ppaction://hlinksldjump"/>
          </p:cNvPr>
          <p:cNvSpPr/>
          <p:nvPr/>
        </p:nvSpPr>
        <p:spPr>
          <a:xfrm>
            <a:off x="39600" y="3352680"/>
            <a:ext cx="223920" cy="21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rId9" action="ppaction://hlinksldjump"/>
          </p:cNvPr>
          <p:cNvSpPr/>
          <p:nvPr/>
        </p:nvSpPr>
        <p:spPr>
          <a:xfrm>
            <a:off x="44280" y="1770120"/>
            <a:ext cx="211320" cy="14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rId10" action="ppaction://hlinksldjump"/>
          </p:cNvPr>
          <p:cNvSpPr/>
          <p:nvPr/>
        </p:nvSpPr>
        <p:spPr>
          <a:xfrm>
            <a:off x="34920" y="914400"/>
            <a:ext cx="216000" cy="76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rId11" action="ppaction://hlinksldjump"/>
          </p:cNvPr>
          <p:cNvSpPr/>
          <p:nvPr/>
        </p:nvSpPr>
        <p:spPr>
          <a:xfrm>
            <a:off x="295200" y="5651640"/>
            <a:ext cx="203400" cy="81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rId12" action="ppaction://hlinksldjump"/>
          </p:cNvPr>
          <p:cNvSpPr/>
          <p:nvPr/>
        </p:nvSpPr>
        <p:spPr>
          <a:xfrm>
            <a:off x="295200" y="3763800"/>
            <a:ext cx="201600" cy="17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rId13" action="ppaction://hlinksldjump"/>
          </p:cNvPr>
          <p:cNvSpPr/>
          <p:nvPr/>
        </p:nvSpPr>
        <p:spPr>
          <a:xfrm>
            <a:off x="284040" y="1150920"/>
            <a:ext cx="211320" cy="253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838080"/>
            <a:ext cx="8153280" cy="137376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333cc"/>
                </a:solidFill>
                <a:latin typeface="Arial"/>
              </a:rPr>
              <a:t>Strategische</a:t>
            </a:r>
            <a:r>
              <a:rPr b="0" lang="de-DE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600" spc="-1" strike="noStrike">
                <a:solidFill>
                  <a:srgbClr val="3333cc"/>
                </a:solidFill>
                <a:latin typeface="Arial"/>
              </a:rPr>
              <a:t>Allianz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66120" y="838080"/>
            <a:ext cx="29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3300"/>
                </a:solidFill>
                <a:latin typeface="Arial Rounded MT Bold"/>
              </a:rPr>
              <a:t>Interessensgemeinscha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68520" y="1143000"/>
            <a:ext cx="240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3300"/>
                </a:solidFill>
                <a:latin typeface="Arial Rounded MT Bold"/>
              </a:rPr>
              <a:t>Arbeitsgemeinscha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92760" y="1523880"/>
            <a:ext cx="14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3300"/>
                </a:solidFill>
                <a:latin typeface="Arial Rounded MT Bold"/>
              </a:rPr>
              <a:t>Konsort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46400" y="152388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3300"/>
                </a:solidFill>
                <a:latin typeface="Arial Rounded MT Bold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505200" y="152388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3300"/>
                </a:solidFill>
                <a:latin typeface="Arial Rounded MT Bold"/>
              </a:rPr>
              <a:t>Karte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rId14" action="ppaction://hlinksldjump"/>
          </p:cNvPr>
          <p:cNvSpPr/>
          <p:nvPr/>
        </p:nvSpPr>
        <p:spPr>
          <a:xfrm>
            <a:off x="685800" y="990720"/>
            <a:ext cx="5029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rId15" action="ppaction://hlinksldjump"/>
          </p:cNvPr>
          <p:cNvSpPr/>
          <p:nvPr/>
        </p:nvSpPr>
        <p:spPr>
          <a:xfrm>
            <a:off x="5791320" y="914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rId16" action="ppaction://hlinksldjump"/>
          </p:cNvPr>
          <p:cNvSpPr/>
          <p:nvPr/>
        </p:nvSpPr>
        <p:spPr>
          <a:xfrm>
            <a:off x="5791320" y="1219320"/>
            <a:ext cx="285912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76920" y="16002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0120" y="1600200"/>
            <a:ext cx="990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77120" y="1600200"/>
            <a:ext cx="914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91320" y="914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91320" y="1219320"/>
            <a:ext cx="285912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76920" y="16002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20120" y="1600200"/>
            <a:ext cx="990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77120" y="1600200"/>
            <a:ext cx="914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96080" y="15238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477120" y="1523880"/>
            <a:ext cx="9903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038480" y="3048120"/>
            <a:ext cx="457200" cy="2819160"/>
          </a:xfrm>
          <a:prstGeom prst="downArrow">
            <a:avLst>
              <a:gd name="adj1" fmla="val 50000"/>
              <a:gd name="adj2" fmla="val 154154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354720" y="228600"/>
            <a:ext cx="2545920" cy="36828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Comic Sans MS"/>
              </a:rPr>
              <a:t>Strategische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800" spc="-1" strike="noStrike">
                <a:solidFill>
                  <a:srgbClr val="3333cc"/>
                </a:solidFill>
                <a:latin typeface="Comic Sans MS"/>
              </a:rPr>
              <a:t>Allianz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92840" y="982800"/>
            <a:ext cx="3210480" cy="1373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halt der Allian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Bereiche 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Zusammenarb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2514600"/>
            <a:ext cx="8534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  <a:ea typeface="Arial"/>
              </a:rPr>
              <a:t>Erhaltung und/oder der Ausbau von Wettbewerbsvortei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  <a:ea typeface="Arial"/>
              </a:rPr>
              <a:t>Know-how Trans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  <a:ea typeface="Arial"/>
              </a:rPr>
              <a:t>Lizenz-, Liefer-, Vertriebs-, Beratungs-,</a:t>
            </a:r>
            <a:br>
              <a:rPr sz="2400"/>
            </a:br>
            <a:r>
              <a:rPr b="0" lang="de-AT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onsabkommen</a:t>
            </a:r>
            <a:br>
              <a:rPr sz="2400"/>
            </a:br>
            <a:r>
              <a:rPr b="0" lang="de-AT" sz="2400" spc="-1" strike="noStrike">
                <a:solidFill>
                  <a:srgbClr val="000000"/>
                </a:solidFill>
                <a:latin typeface="Arial"/>
                <a:ea typeface="Arial"/>
              </a:rPr>
              <a:t>Vertragliche Willenserklärung zur gegenseitigen Beachtung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  <a:ea typeface="Arial"/>
              </a:rPr>
              <a:t>Gemeinsame Nutzung von Produktionsanlagen, Materialwirtschaft, Marketing,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  <a:ea typeface="Arial"/>
              </a:rPr>
              <a:t>orschung und Entwicklung, Personal, EDV-Nutzun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rId1" action="ppaction://hlinksldjump"/>
          </p:cNvPr>
          <p:cNvSpPr/>
          <p:nvPr/>
        </p:nvSpPr>
        <p:spPr>
          <a:xfrm>
            <a:off x="4191120" y="624852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3" h="21600">
                <a:moveTo>
                  <a:pt x="14585" y="10800"/>
                </a:moveTo>
                <a:lnTo>
                  <a:pt x="28598" y="3794"/>
                </a:lnTo>
                <a:lnTo>
                  <a:pt x="28598" y="17806"/>
                </a:lnTo>
                <a:close/>
              </a:path>
            </a:pathLst>
          </a:cu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-2691360" y="3607920"/>
            <a:ext cx="59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Grundlagen     Strategische Allianzen      Joint Ventures       F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Konzern       rechtliche Fragen      wirtschaftliche Bedeu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rId2" action="ppaction://hlinksldjump"/>
          </p:cNvPr>
          <p:cNvSpPr/>
          <p:nvPr/>
        </p:nvSpPr>
        <p:spPr>
          <a:xfrm>
            <a:off x="41400" y="5584680"/>
            <a:ext cx="2221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>
            <a:hlinkClick r:id="rId3" action="ppaction://hlinksldjump"/>
          </p:cNvPr>
          <p:cNvSpPr/>
          <p:nvPr/>
        </p:nvSpPr>
        <p:spPr>
          <a:xfrm>
            <a:off x="39600" y="3352680"/>
            <a:ext cx="223920" cy="21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rId4" action="ppaction://hlinksldjump"/>
          </p:cNvPr>
          <p:cNvSpPr/>
          <p:nvPr/>
        </p:nvSpPr>
        <p:spPr>
          <a:xfrm>
            <a:off x="44280" y="1770120"/>
            <a:ext cx="211320" cy="14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rId5" action="ppaction://hlinksldjump"/>
          </p:cNvPr>
          <p:cNvSpPr/>
          <p:nvPr/>
        </p:nvSpPr>
        <p:spPr>
          <a:xfrm>
            <a:off x="34920" y="914400"/>
            <a:ext cx="216000" cy="76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rId6" action="ppaction://hlinksldjump"/>
          </p:cNvPr>
          <p:cNvSpPr/>
          <p:nvPr/>
        </p:nvSpPr>
        <p:spPr>
          <a:xfrm>
            <a:off x="295200" y="5651640"/>
            <a:ext cx="203400" cy="81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rId7" action="ppaction://hlinksldjump"/>
          </p:cNvPr>
          <p:cNvSpPr/>
          <p:nvPr/>
        </p:nvSpPr>
        <p:spPr>
          <a:xfrm>
            <a:off x="295200" y="3763800"/>
            <a:ext cx="201600" cy="17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rId8" action="ppaction://hlinksldjump"/>
          </p:cNvPr>
          <p:cNvSpPr/>
          <p:nvPr/>
        </p:nvSpPr>
        <p:spPr>
          <a:xfrm>
            <a:off x="284040" y="1150920"/>
            <a:ext cx="211320" cy="253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3352680"/>
            <a:ext cx="792468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14400" y="4876920"/>
            <a:ext cx="792468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14400" y="4876920"/>
            <a:ext cx="792468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762120" y="3124080"/>
            <a:ext cx="8381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  <a:ea typeface="Arial"/>
              </a:rPr>
              <a:t>wirtschaftliche und rechtl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  <a:ea typeface="Arial"/>
              </a:rPr>
              <a:t>Selbstständigkeit bleibt erhal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  <a:ea typeface="Arial"/>
              </a:rPr>
              <a:t>rechtliche Selbstständigkeit bleibt erhalten, die wirtschaftliche Selbständigkeit wird in den Kooperationsbereichen teilweise oder ganz aufgege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  <a:ea typeface="Arial"/>
              </a:rPr>
              <a:t>Dabei verringert sich meist die Entscheidungsautonomie in den Kooperationsbereic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>
            <a:hlinkClick r:id="rId1" action="ppaction://hlinksldjump"/>
          </p:cNvPr>
          <p:cNvSpPr/>
          <p:nvPr/>
        </p:nvSpPr>
        <p:spPr>
          <a:xfrm>
            <a:off x="4191120" y="594360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28040" y="914400"/>
            <a:ext cx="2850840" cy="9471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Umfang 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Zusammenarb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00400" y="2133720"/>
            <a:ext cx="2819520" cy="838080"/>
          </a:xfrm>
          <a:prstGeom prst="leftRightArrow">
            <a:avLst>
              <a:gd name="adj1" fmla="val 50000"/>
              <a:gd name="adj2" fmla="val 66974"/>
            </a:avLst>
          </a:pr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rot="16200000">
            <a:off x="-2691360" y="3607920"/>
            <a:ext cx="59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Grundlagen     Strategische Allianzen      Joint Ventures       F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Konzern       rechtliche Fragen      wirtschaftliche Bedeu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rId2" action="ppaction://hlinksldjump"/>
          </p:cNvPr>
          <p:cNvSpPr/>
          <p:nvPr/>
        </p:nvSpPr>
        <p:spPr>
          <a:xfrm>
            <a:off x="41400" y="5584680"/>
            <a:ext cx="2221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rId3" action="ppaction://hlinksldjump"/>
          </p:cNvPr>
          <p:cNvSpPr/>
          <p:nvPr/>
        </p:nvSpPr>
        <p:spPr>
          <a:xfrm>
            <a:off x="39600" y="3352680"/>
            <a:ext cx="223920" cy="21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rId4" action="ppaction://hlinksldjump"/>
          </p:cNvPr>
          <p:cNvSpPr/>
          <p:nvPr/>
        </p:nvSpPr>
        <p:spPr>
          <a:xfrm>
            <a:off x="44280" y="1770120"/>
            <a:ext cx="211320" cy="14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>
            <a:hlinkClick r:id="rId5" action="ppaction://hlinksldjump"/>
          </p:cNvPr>
          <p:cNvSpPr/>
          <p:nvPr/>
        </p:nvSpPr>
        <p:spPr>
          <a:xfrm>
            <a:off x="34920" y="914400"/>
            <a:ext cx="216000" cy="76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rId6" action="ppaction://hlinksldjump"/>
          </p:cNvPr>
          <p:cNvSpPr/>
          <p:nvPr/>
        </p:nvSpPr>
        <p:spPr>
          <a:xfrm>
            <a:off x="295200" y="5651640"/>
            <a:ext cx="203400" cy="81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rId7" action="ppaction://hlinksldjump"/>
          </p:cNvPr>
          <p:cNvSpPr/>
          <p:nvPr/>
        </p:nvSpPr>
        <p:spPr>
          <a:xfrm>
            <a:off x="295200" y="3763800"/>
            <a:ext cx="201600" cy="17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rId8" action="ppaction://hlinksldjump"/>
          </p:cNvPr>
          <p:cNvSpPr/>
          <p:nvPr/>
        </p:nvSpPr>
        <p:spPr>
          <a:xfrm>
            <a:off x="284040" y="1150920"/>
            <a:ext cx="211320" cy="253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354720" y="228600"/>
            <a:ext cx="2545920" cy="36828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Comic Sans MS"/>
              </a:rPr>
              <a:t>Strategische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800" spc="-1" strike="noStrike">
                <a:solidFill>
                  <a:srgbClr val="3333cc"/>
                </a:solidFill>
                <a:latin typeface="Comic Sans MS"/>
              </a:rPr>
              <a:t>Allianz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21587400">
            <a:off x="838800" y="2209320"/>
            <a:ext cx="20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sehr lo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rot="21587400">
            <a:off x="6172560" y="2209680"/>
            <a:ext cx="274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sehr intensiv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>
            <a:hlinkClick r:id="rId1" action="ppaction://hlinksldjump"/>
          </p:cNvPr>
          <p:cNvSpPr/>
          <p:nvPr/>
        </p:nvSpPr>
        <p:spPr>
          <a:xfrm>
            <a:off x="4191120" y="594360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407320" y="1287360"/>
            <a:ext cx="4278600" cy="9471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Geografische Ausricht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der Allian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991400">
            <a:off x="1639440" y="2305080"/>
            <a:ext cx="914400" cy="2057400"/>
          </a:xfrm>
          <a:prstGeom prst="downArrow">
            <a:avLst>
              <a:gd name="adj1" fmla="val 50000"/>
              <a:gd name="adj2" fmla="val 56250"/>
            </a:avLst>
          </a:pr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19404600">
            <a:off x="6680160" y="2293560"/>
            <a:ext cx="914400" cy="2057400"/>
          </a:xfrm>
          <a:prstGeom prst="downArrow">
            <a:avLst>
              <a:gd name="adj1" fmla="val 50000"/>
              <a:gd name="adj2" fmla="val 56250"/>
            </a:avLst>
          </a:pr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21590400">
            <a:off x="4114800" y="2360520"/>
            <a:ext cx="914400" cy="18288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16200000">
            <a:off x="-2691360" y="3607920"/>
            <a:ext cx="59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Grundlagen     Strategische Allianzen      Joint Ventures       F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Konzern       rechtliche Fragen      wirtschaftliche Bedeu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>
            <a:hlinkClick r:id="rId2" action="ppaction://hlinksldjump"/>
          </p:cNvPr>
          <p:cNvSpPr/>
          <p:nvPr/>
        </p:nvSpPr>
        <p:spPr>
          <a:xfrm>
            <a:off x="41400" y="5584680"/>
            <a:ext cx="2221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>
            <a:hlinkClick r:id="rId3" action="ppaction://hlinksldjump"/>
          </p:cNvPr>
          <p:cNvSpPr/>
          <p:nvPr/>
        </p:nvSpPr>
        <p:spPr>
          <a:xfrm>
            <a:off x="39600" y="3352680"/>
            <a:ext cx="223920" cy="21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>
            <a:hlinkClick r:id="rId4" action="ppaction://hlinksldjump"/>
          </p:cNvPr>
          <p:cNvSpPr/>
          <p:nvPr/>
        </p:nvSpPr>
        <p:spPr>
          <a:xfrm>
            <a:off x="44280" y="1770120"/>
            <a:ext cx="211320" cy="14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rId5" action="ppaction://hlinksldjump"/>
          </p:cNvPr>
          <p:cNvSpPr/>
          <p:nvPr/>
        </p:nvSpPr>
        <p:spPr>
          <a:xfrm>
            <a:off x="34920" y="914400"/>
            <a:ext cx="216000" cy="76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rId6" action="ppaction://hlinksldjump"/>
          </p:cNvPr>
          <p:cNvSpPr/>
          <p:nvPr/>
        </p:nvSpPr>
        <p:spPr>
          <a:xfrm>
            <a:off x="295200" y="5651640"/>
            <a:ext cx="203400" cy="81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rId7" action="ppaction://hlinksldjump"/>
          </p:cNvPr>
          <p:cNvSpPr/>
          <p:nvPr/>
        </p:nvSpPr>
        <p:spPr>
          <a:xfrm>
            <a:off x="295200" y="3763800"/>
            <a:ext cx="201600" cy="17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rId8" action="ppaction://hlinksldjump"/>
          </p:cNvPr>
          <p:cNvSpPr/>
          <p:nvPr/>
        </p:nvSpPr>
        <p:spPr>
          <a:xfrm>
            <a:off x="284040" y="1150920"/>
            <a:ext cx="211320" cy="253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354720" y="228600"/>
            <a:ext cx="2545920" cy="36828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Comic Sans MS"/>
              </a:rPr>
              <a:t>Strategische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800" spc="-1" strike="noStrike">
                <a:solidFill>
                  <a:srgbClr val="3333cc"/>
                </a:solidFill>
                <a:latin typeface="Comic Sans MS"/>
              </a:rPr>
              <a:t>Allianz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21587400">
            <a:off x="838440" y="4419360"/>
            <a:ext cx="186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Natio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21587400">
            <a:off x="3429360" y="4419720"/>
            <a:ext cx="269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Internatio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21587400">
            <a:off x="6858360" y="4419720"/>
            <a:ext cx="150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>
            <a:hlinkClick r:id="rId1" action="ppaction://hlinksldjump"/>
          </p:cNvPr>
          <p:cNvSpPr/>
          <p:nvPr/>
        </p:nvSpPr>
        <p:spPr>
          <a:xfrm>
            <a:off x="4191120" y="594360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053880" y="1828800"/>
            <a:ext cx="30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eitliche Begren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rot="1991400">
            <a:off x="3200040" y="2362320"/>
            <a:ext cx="914400" cy="1371600"/>
          </a:xfrm>
          <a:prstGeom prst="downArrow">
            <a:avLst>
              <a:gd name="adj1" fmla="val 50000"/>
              <a:gd name="adj2" fmla="val 37500"/>
            </a:avLst>
          </a:pr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rot="19620000">
            <a:off x="4952520" y="2361960"/>
            <a:ext cx="914400" cy="1371600"/>
          </a:xfrm>
          <a:prstGeom prst="downArrow">
            <a:avLst>
              <a:gd name="adj1" fmla="val 50000"/>
              <a:gd name="adj2" fmla="val 37500"/>
            </a:avLst>
          </a:pr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894040" y="1287360"/>
            <a:ext cx="3308040" cy="5205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Dauer der Allian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16200000">
            <a:off x="-2691360" y="3607920"/>
            <a:ext cx="59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Grundlagen     Strategische Allianzen      Joint Ventures       F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Konzern       rechtliche Fragen      wirtschaftliche Bedeu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rId2" action="ppaction://hlinksldjump"/>
          </p:cNvPr>
          <p:cNvSpPr/>
          <p:nvPr/>
        </p:nvSpPr>
        <p:spPr>
          <a:xfrm>
            <a:off x="41400" y="5584680"/>
            <a:ext cx="2221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rId3" action="ppaction://hlinksldjump"/>
          </p:cNvPr>
          <p:cNvSpPr/>
          <p:nvPr/>
        </p:nvSpPr>
        <p:spPr>
          <a:xfrm>
            <a:off x="39600" y="3352680"/>
            <a:ext cx="223920" cy="21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>
            <a:hlinkClick r:id="rId4" action="ppaction://hlinksldjump"/>
          </p:cNvPr>
          <p:cNvSpPr/>
          <p:nvPr/>
        </p:nvSpPr>
        <p:spPr>
          <a:xfrm>
            <a:off x="44280" y="1770120"/>
            <a:ext cx="211320" cy="14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>
            <a:hlinkClick r:id="rId5" action="ppaction://hlinksldjump"/>
          </p:cNvPr>
          <p:cNvSpPr/>
          <p:nvPr/>
        </p:nvSpPr>
        <p:spPr>
          <a:xfrm>
            <a:off x="34920" y="914400"/>
            <a:ext cx="216000" cy="76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rId6" action="ppaction://hlinksldjump"/>
          </p:cNvPr>
          <p:cNvSpPr/>
          <p:nvPr/>
        </p:nvSpPr>
        <p:spPr>
          <a:xfrm>
            <a:off x="295200" y="5651640"/>
            <a:ext cx="203400" cy="81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>
            <a:hlinkClick r:id="rId7" action="ppaction://hlinksldjump"/>
          </p:cNvPr>
          <p:cNvSpPr/>
          <p:nvPr/>
        </p:nvSpPr>
        <p:spPr>
          <a:xfrm>
            <a:off x="295200" y="3763800"/>
            <a:ext cx="201600" cy="17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>
            <a:hlinkClick r:id="rId8" action="ppaction://hlinksldjump"/>
          </p:cNvPr>
          <p:cNvSpPr/>
          <p:nvPr/>
        </p:nvSpPr>
        <p:spPr>
          <a:xfrm>
            <a:off x="284040" y="1150920"/>
            <a:ext cx="211320" cy="253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354720" y="228600"/>
            <a:ext cx="2545920" cy="36828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Comic Sans MS"/>
              </a:rPr>
              <a:t>Strategische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800" spc="-1" strike="noStrike">
                <a:solidFill>
                  <a:srgbClr val="3333cc"/>
                </a:solidFill>
                <a:latin typeface="Comic Sans MS"/>
              </a:rPr>
              <a:t>Allianz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21587400">
            <a:off x="1065600" y="4052520"/>
            <a:ext cx="343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kurzfristi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Vereinbarung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21587400">
            <a:off x="5028120" y="4052520"/>
            <a:ext cx="343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langfristi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Vereinbarung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>
            <a:hlinkClick r:id="rId1" action="ppaction://hlinksldjump"/>
          </p:cNvPr>
          <p:cNvSpPr/>
          <p:nvPr/>
        </p:nvSpPr>
        <p:spPr>
          <a:xfrm>
            <a:off x="4191120" y="594360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164760" y="1287360"/>
            <a:ext cx="2850840" cy="9471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Richtungen 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Zusammenarb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991400">
            <a:off x="1904760" y="2362320"/>
            <a:ext cx="914400" cy="1371600"/>
          </a:xfrm>
          <a:prstGeom prst="downArrow">
            <a:avLst>
              <a:gd name="adj1" fmla="val 50000"/>
              <a:gd name="adj2" fmla="val 37500"/>
            </a:avLst>
          </a:pr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19404600">
            <a:off x="6553080" y="2361960"/>
            <a:ext cx="914400" cy="1371600"/>
          </a:xfrm>
          <a:prstGeom prst="downArrow">
            <a:avLst>
              <a:gd name="adj1" fmla="val 50000"/>
              <a:gd name="adj2" fmla="val 37500"/>
            </a:avLst>
          </a:pr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21590400">
            <a:off x="4191120" y="2362320"/>
            <a:ext cx="914400" cy="1371600"/>
          </a:xfrm>
          <a:prstGeom prst="downArrow">
            <a:avLst>
              <a:gd name="adj1" fmla="val 50000"/>
              <a:gd name="adj2" fmla="val 37500"/>
            </a:avLst>
          </a:pr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95760" y="4648320"/>
            <a:ext cx="218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nerhalb derselb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ran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5400" y="4648320"/>
            <a:ext cx="168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t Lieferan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d Kun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479640" y="46483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schäftspartner a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deren Branc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16200000">
            <a:off x="-2691360" y="3607920"/>
            <a:ext cx="59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Grundlagen     Strategische Allianzen      Joint Ventures       F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Konzern       rechtliche Fragen      wirtschaftliche Bedeu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>
            <a:hlinkClick r:id="rId2" action="ppaction://hlinksldjump"/>
          </p:cNvPr>
          <p:cNvSpPr/>
          <p:nvPr/>
        </p:nvSpPr>
        <p:spPr>
          <a:xfrm>
            <a:off x="41400" y="5584680"/>
            <a:ext cx="2221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>
            <a:hlinkClick r:id="rId3" action="ppaction://hlinksldjump"/>
          </p:cNvPr>
          <p:cNvSpPr/>
          <p:nvPr/>
        </p:nvSpPr>
        <p:spPr>
          <a:xfrm>
            <a:off x="39600" y="3352680"/>
            <a:ext cx="223920" cy="21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>
            <a:hlinkClick r:id="rId4" action="ppaction://hlinksldjump"/>
          </p:cNvPr>
          <p:cNvSpPr/>
          <p:nvPr/>
        </p:nvSpPr>
        <p:spPr>
          <a:xfrm>
            <a:off x="44280" y="1770120"/>
            <a:ext cx="211320" cy="14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>
            <a:hlinkClick r:id="rId5" action="ppaction://hlinksldjump"/>
          </p:cNvPr>
          <p:cNvSpPr/>
          <p:nvPr/>
        </p:nvSpPr>
        <p:spPr>
          <a:xfrm>
            <a:off x="34920" y="914400"/>
            <a:ext cx="216000" cy="76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>
            <a:hlinkClick r:id="rId6" action="ppaction://hlinksldjump"/>
          </p:cNvPr>
          <p:cNvSpPr/>
          <p:nvPr/>
        </p:nvSpPr>
        <p:spPr>
          <a:xfrm>
            <a:off x="295200" y="5651640"/>
            <a:ext cx="203400" cy="81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>
            <a:hlinkClick r:id="rId7" action="ppaction://hlinksldjump"/>
          </p:cNvPr>
          <p:cNvSpPr/>
          <p:nvPr/>
        </p:nvSpPr>
        <p:spPr>
          <a:xfrm>
            <a:off x="295200" y="3763800"/>
            <a:ext cx="201600" cy="17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>
            <a:hlinkClick r:id="rId8" action="ppaction://hlinksldjump"/>
          </p:cNvPr>
          <p:cNvSpPr/>
          <p:nvPr/>
        </p:nvSpPr>
        <p:spPr>
          <a:xfrm>
            <a:off x="284040" y="1150920"/>
            <a:ext cx="211320" cy="253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354720" y="228600"/>
            <a:ext cx="2545920" cy="36828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Comic Sans MS"/>
              </a:rPr>
              <a:t>Strategische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800" spc="-1" strike="noStrike">
                <a:solidFill>
                  <a:srgbClr val="3333cc"/>
                </a:solidFill>
                <a:latin typeface="Comic Sans MS"/>
              </a:rPr>
              <a:t>Allianz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3886200"/>
            <a:ext cx="224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Horizont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10600" y="3886200"/>
            <a:ext cx="170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Vertik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rot="21587400">
            <a:off x="6781320" y="3809520"/>
            <a:ext cx="198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Diago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8T11:56:32Z</dcterms:created>
  <dc:creator>Mag. Döberl Karl</dc:creator>
  <dc:description/>
  <dc:language>en-US</dc:language>
  <cp:lastModifiedBy>Mag. Döberl Karl</cp:lastModifiedBy>
  <dcterms:modified xsi:type="dcterms:W3CDTF">2002-10-18T19:16:53Z</dcterms:modified>
  <cp:revision>98</cp:revision>
  <dc:subject/>
  <dc:title>PowerPoint-Präsentation</dc:title>
</cp:coreProperties>
</file>